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2.wmf" ContentType="image/x-wmf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33.jpeg" ContentType="image/jpeg"/>
  <Override PartName="/ppt/media/image21.wmf" ContentType="image/x-wmf"/>
  <Override PartName="/ppt/media/image6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7.gif" ContentType="image/gif"/>
  <Override PartName="/ppt/media/image32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.wmf" ContentType="image/x-wmf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104B-C178-4C28-B5B7-1DCA5483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5D2D-8DA3-44FB-B930-27E39E98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3627-6991-4037-AEC9-93841DCC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27D5-705F-47DB-B8EB-2F07483E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F4E8-74CD-4AC6-A9F9-84CFA89C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6146-D0CD-4446-92FC-B0A6DF3A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D0A6-7EFC-4EC6-B1A7-23D1C3CE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15BD-F5BB-440B-B03B-EF151EE6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FB8F-B5F5-4A8B-801C-9AFF223C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6755-7D52-4BA7-9338-98D6DC52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AEDA-CD15-493A-8D96-936A1C80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47F1-A0CB-4CA5-88EB-61F2434A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84BA-BC66-47A5-8D99-8273A538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AC77-285C-4B4A-A15A-687072CE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28CA-09B2-4AFB-9F48-D2FDE7F7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23E4-F490-4ED2-9B9D-1988DAEA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AE42-B83D-48E8-A712-590C4365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BD7-C506-47B1-8B2C-66B2170D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02EF-258F-49D2-AF76-7039D999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B644-B72F-42E6-9724-16016788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A8AF-E547-4871-B0B1-AD8E1201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AD05-550C-4BCF-B178-F1A9F637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6AD-CC0A-4606-847D-7DD4472A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893-F4CC-4FFC-9B50-2BEB1EC8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4551-3085-4BAC-A68A-2E85B859C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2C0E-0467-4E94-89E7-CCDCBD7B1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685800" y="917640"/>
            <a:ext cx="815328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600"/>
                </a:solidFill>
                <a:latin typeface="Book Antiqua"/>
              </a:rPr>
              <a:t>«Профилактика ОРВИ и гриппа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581280" y="510552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  <p:pic>
        <p:nvPicPr>
          <p:cNvPr id="101" name="Picture 12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2114640" cy="335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8" descr="5.jpg"/>
          <p:cNvPicPr/>
          <p:nvPr/>
        </p:nvPicPr>
        <p:blipFill>
          <a:blip r:embed="rId3"/>
          <a:stretch/>
        </p:blipFill>
        <p:spPr>
          <a:xfrm>
            <a:off x="5410080" y="3657600"/>
            <a:ext cx="23418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14440" y="1904760"/>
            <a:ext cx="4730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доровый образ жизн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статочный со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ьное пит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али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ческая актив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ЗОЖ"/>
          <p:cNvPicPr/>
          <p:nvPr/>
        </p:nvPicPr>
        <p:blipFill>
          <a:blip r:embed="rId1"/>
          <a:stretch/>
        </p:blipFill>
        <p:spPr>
          <a:xfrm>
            <a:off x="533520" y="167652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ЗОЖ1"/>
          <p:cNvPicPr/>
          <p:nvPr/>
        </p:nvPicPr>
        <p:blipFill>
          <a:blip r:embed="rId2"/>
          <a:stretch/>
        </p:blipFill>
        <p:spPr>
          <a:xfrm>
            <a:off x="990720" y="4495680"/>
            <a:ext cx="2933640" cy="160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ЗОЖ2"/>
          <p:cNvPicPr/>
          <p:nvPr/>
        </p:nvPicPr>
        <p:blipFill>
          <a:blip r:embed="rId3"/>
          <a:stretch/>
        </p:blipFill>
        <p:spPr>
          <a:xfrm>
            <a:off x="7238880" y="5105520"/>
            <a:ext cx="146700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86200" y="1905120"/>
            <a:ext cx="4959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авильно    используйте медицинскую мас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438280" cy="2301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грипп3"/>
          <p:cNvPicPr/>
          <p:nvPr/>
        </p:nvPicPr>
        <p:blipFill>
          <a:blip r:embed="rId2"/>
          <a:stretch/>
        </p:blipFill>
        <p:spPr>
          <a:xfrm>
            <a:off x="2971800" y="4572000"/>
            <a:ext cx="358128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 ЗАБОЛЕЛ. Что делать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6520" y="1523520"/>
            <a:ext cx="6178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ести к минимуму контакт с другими люд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блюдать постельный реж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ратиться за медицинской помощ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блюдать правила личной гигиены, использовать медицинскую ма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ть м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дк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стресс2"/>
          <p:cNvPicPr/>
          <p:nvPr/>
        </p:nvPicPr>
        <p:blipFill>
          <a:blip r:embed="rId1"/>
          <a:stretch/>
        </p:blipFill>
        <p:spPr>
          <a:xfrm>
            <a:off x="228600" y="2286000"/>
            <a:ext cx="2514600" cy="2438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уход"/>
          <p:cNvPicPr/>
          <p:nvPr/>
        </p:nvPicPr>
        <p:blipFill>
          <a:blip r:embed="rId2"/>
          <a:stretch/>
        </p:blipFill>
        <p:spPr>
          <a:xfrm>
            <a:off x="6248520" y="4952880"/>
            <a:ext cx="243828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ЕСЛИ В ДОМЕ БОЛЬНО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9880" y="1904760"/>
            <a:ext cx="503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местить больного в отдельной комна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делить для больного отдельные предметы туалета, посуды, постельного бел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астое проветривание и влажная уборка поме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уходе за больным использовать маску, часто мыть р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уход1"/>
          <p:cNvPicPr/>
          <p:nvPr/>
        </p:nvPicPr>
        <p:blipFill>
          <a:blip r:embed="rId1"/>
          <a:stretch/>
        </p:blipFill>
        <p:spPr>
          <a:xfrm>
            <a:off x="457200" y="1676520"/>
            <a:ext cx="3048120" cy="2590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гигиенические навыки"/>
          <p:cNvPicPr/>
          <p:nvPr/>
        </p:nvPicPr>
        <p:blipFill>
          <a:blip r:embed="rId2"/>
          <a:stretch/>
        </p:blipFill>
        <p:spPr>
          <a:xfrm>
            <a:off x="1523880" y="5181480"/>
            <a:ext cx="2362320" cy="1524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12189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7"/>
          <p:cNvSpPr/>
          <p:nvPr/>
        </p:nvSpPr>
        <p:spPr>
          <a:xfrm>
            <a:off x="684360" y="4797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УДЬТЕ ЗДОРОВ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2627280" y="260280"/>
            <a:ext cx="3816360" cy="38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ути передачи инфек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590920" cy="2667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5.jpg"/>
          <p:cNvPicPr/>
          <p:nvPr/>
        </p:nvPicPr>
        <p:blipFill>
          <a:blip r:embed="rId2"/>
          <a:stretch/>
        </p:blipFill>
        <p:spPr>
          <a:xfrm>
            <a:off x="533520" y="1828800"/>
            <a:ext cx="3220920" cy="297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общение1"/>
          <p:cNvPicPr/>
          <p:nvPr/>
        </p:nvPicPr>
        <p:blipFill>
          <a:blip r:embed="rId3"/>
          <a:stretch/>
        </p:blipFill>
        <p:spPr>
          <a:xfrm>
            <a:off x="4876920" y="4648320"/>
            <a:ext cx="3047760" cy="20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чашка"/>
          <p:cNvPicPr/>
          <p:nvPr/>
        </p:nvPicPr>
        <p:blipFill>
          <a:blip r:embed="rId4"/>
          <a:stretch/>
        </p:blipFill>
        <p:spPr>
          <a:xfrm>
            <a:off x="4267080" y="266688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полотенце"/>
          <p:cNvPicPr/>
          <p:nvPr/>
        </p:nvPicPr>
        <p:blipFill>
          <a:blip r:embed="rId5"/>
          <a:stretch/>
        </p:blipFill>
        <p:spPr>
          <a:xfrm>
            <a:off x="1219320" y="5257800"/>
            <a:ext cx="16761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имптомы заболе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высокая температур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озноб и слабость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боль и ломота 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сем тел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каше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головная б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насморк или заложенность но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симптомы"/>
          <p:cNvPicPr/>
          <p:nvPr/>
        </p:nvPicPr>
        <p:blipFill>
          <a:blip r:embed="rId1"/>
          <a:stretch/>
        </p:blipFill>
        <p:spPr>
          <a:xfrm>
            <a:off x="6553080" y="19810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симптомы1"/>
          <p:cNvPicPr/>
          <p:nvPr/>
        </p:nvPicPr>
        <p:blipFill>
          <a:blip r:embed="rId1"/>
          <a:stretch/>
        </p:blipFill>
        <p:spPr>
          <a:xfrm>
            <a:off x="-380880" y="0"/>
            <a:ext cx="9963000" cy="69818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-228600" y="762120"/>
            <a:ext cx="3276720" cy="6095880"/>
          </a:xfrm>
          <a:prstGeom prst="rect">
            <a:avLst/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ec1b3661b570"/>
          <p:cNvPicPr/>
          <p:nvPr/>
        </p:nvPicPr>
        <p:blipFill>
          <a:blip r:embed="rId2"/>
          <a:srcRect l="0" t="0" r="0" b="6189"/>
          <a:stretch/>
        </p:blipFill>
        <p:spPr>
          <a:xfrm>
            <a:off x="3048120" y="3917880"/>
            <a:ext cx="6324480" cy="2787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image005"/>
          <p:cNvPicPr/>
          <p:nvPr/>
        </p:nvPicPr>
        <p:blipFill>
          <a:blip r:embed="rId3"/>
          <a:stretch/>
        </p:blipFill>
        <p:spPr>
          <a:xfrm>
            <a:off x="-228600" y="914400"/>
            <a:ext cx="32734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14640" y="1904760"/>
            <a:ext cx="2895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новн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редством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филакт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РИП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АКЦИН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прививка"/>
          <p:cNvPicPr/>
          <p:nvPr/>
        </p:nvPicPr>
        <p:blipFill>
          <a:blip r:embed="rId2"/>
          <a:stretch/>
        </p:blipFill>
        <p:spPr>
          <a:xfrm>
            <a:off x="1295280" y="1752480"/>
            <a:ext cx="40388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вакцинация1"/>
          <p:cNvPicPr/>
          <p:nvPr/>
        </p:nvPicPr>
        <p:blipFill>
          <a:blip r:embed="rId3"/>
          <a:stretch/>
        </p:blipFill>
        <p:spPr>
          <a:xfrm>
            <a:off x="6553080" y="4952880"/>
            <a:ext cx="23623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05320" y="1904760"/>
            <a:ext cx="5340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фортный температурный режим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гулярное проветривание, влажная уборка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евать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пого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уборка"/>
          <p:cNvPicPr/>
          <p:nvPr/>
        </p:nvPicPr>
        <p:blipFill>
          <a:blip r:embed="rId1"/>
          <a:stretch/>
        </p:blipFill>
        <p:spPr>
          <a:xfrm>
            <a:off x="838080" y="43434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уборка1"/>
          <p:cNvPicPr/>
          <p:nvPr/>
        </p:nvPicPr>
        <p:blipFill>
          <a:blip r:embed="rId2"/>
          <a:stretch/>
        </p:blipFill>
        <p:spPr>
          <a:xfrm>
            <a:off x="380880" y="1600200"/>
            <a:ext cx="236232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уборка2"/>
          <p:cNvPicPr/>
          <p:nvPr/>
        </p:nvPicPr>
        <p:blipFill>
          <a:blip r:embed="rId3"/>
          <a:stretch/>
        </p:blipFill>
        <p:spPr>
          <a:xfrm>
            <a:off x="6705720" y="4952880"/>
            <a:ext cx="19047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И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38120" y="1904760"/>
            <a:ext cx="480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крывайте рот и нос при чихании или каш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бегайте прикосновений ко своему рту и но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блюдайте «дистанцию» при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чихание"/>
          <p:cNvPicPr/>
          <p:nvPr/>
        </p:nvPicPr>
        <p:blipFill>
          <a:blip r:embed="rId1"/>
          <a:stretch/>
        </p:blipFill>
        <p:spPr>
          <a:xfrm>
            <a:off x="685800" y="1905120"/>
            <a:ext cx="3200400" cy="2219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чихание2"/>
          <p:cNvPicPr/>
          <p:nvPr/>
        </p:nvPicPr>
        <p:blipFill>
          <a:blip r:embed="rId2"/>
          <a:stretch/>
        </p:blipFill>
        <p:spPr>
          <a:xfrm>
            <a:off x="1295280" y="5029200"/>
            <a:ext cx="2438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343400" y="1905120"/>
            <a:ext cx="4502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щательно и ча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йте руки с мылом         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тирайте 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езинфицирующи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редств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706840" cy="2819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6172200" y="5334120"/>
            <a:ext cx="25146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80920" y="1904760"/>
            <a:ext cx="526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бегайте тесных контактов с людьми которые могут быть боль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кратите время пребывания в местах скопления люд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гости1"/>
          <p:cNvPicPr/>
          <p:nvPr/>
        </p:nvPicPr>
        <p:blipFill>
          <a:blip r:embed="rId1"/>
          <a:stretch/>
        </p:blipFill>
        <p:spPr>
          <a:xfrm>
            <a:off x="1143000" y="4343400"/>
            <a:ext cx="2438280" cy="2138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гости2"/>
          <p:cNvPicPr/>
          <p:nvPr/>
        </p:nvPicPr>
        <p:blipFill>
          <a:blip r:embed="rId2"/>
          <a:stretch/>
        </p:blipFill>
        <p:spPr>
          <a:xfrm>
            <a:off x="304920" y="1295280"/>
            <a:ext cx="26668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rinthian</dc:creator>
  <dc:description/>
  <dc:language>en-US</dc:language>
  <cp:lastModifiedBy>Comp</cp:lastModifiedBy>
  <dcterms:modified xsi:type="dcterms:W3CDTF">2016-02-03T17:26:0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