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39E0-94BD-4378-A27A-9CE2928A2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6BB3-2E9B-4145-A42B-970EAFE63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A600-0F5F-4BF0-9202-E169EA3E4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08A2-6944-4183-B7F1-F8F445760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ED352-5462-4BED-97DA-ECB1CDE1D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92A87-AE60-4625-991B-40B8B54CC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5F702-1869-4954-ADB8-E4ED58A04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6AA3A-757C-4C99-A3CE-04ACFF3D1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AB4B1-1490-4E41-B6F0-42A13B933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29521-D2E8-4FB2-9B0C-A6E6C7EB8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DE682-633F-4988-AA16-73633C5A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F6F4-1263-4320-ABF8-60A984B31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492D8-ACFF-4F1D-9D03-4E759CA1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4B583-4032-4FFD-A1EC-8923A5CC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8438E-2583-4F7E-BF70-B83869E6A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8FC03-130F-4906-8157-D52999BFA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AF7FB-8ADF-49D9-B685-1776BFB2E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6BAE-C772-4B2F-BFFB-CC1EAB9CB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66AE-DD8B-4324-A4F9-655DE12E2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B9A9-C889-41BF-882B-F881CD742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A4C5-D947-4818-9862-FB64AFACD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4C22-2C45-4918-83BA-FF03D4C3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5F81-5EB7-42E2-B317-C94C931D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EC51-C747-43FA-8131-421F2FC2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B6FE4-DCE7-4139-835A-7E5309BADE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5A6ED-1C11-448D-804A-50B9264F99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990033"/>
                </a:solidFill>
                <a:latin typeface="Arial Black"/>
              </a:rPr>
              <a:t>Наши земляки.</a:t>
            </a:r>
            <a:br>
              <a:rPr sz="4800"/>
            </a:br>
            <a:r>
              <a:rPr b="0" i="1" lang="en-US" sz="4800" spc="-1" strike="noStrike">
                <a:solidFill>
                  <a:srgbClr val="990033"/>
                </a:solidFill>
                <a:latin typeface="Arial Black"/>
              </a:rPr>
              <a:t>Герои Советского Союза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КАВАЛЕРЫ ОРДЕНОВ СЛАВЫ 3-Х СТЕПЕНЕЙ,ПРИРАВНИВАЮЩИХСЯ К ГЕРОЯМ СОВЕТСКОГО СОЮЗА</a:t>
            </a:r>
            <a:br>
              <a:rPr sz="2400"/>
            </a:b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ИТНЕБИ АБДУРАМАНОВ — ро­дился в 1914 г. в деревне Биюк-Каралез Бахчисарайского уезда, гвардии старший сержант, командир отделения разведчи­ков маршевой роты 37-й стрелковой ди­визии, кавалер ордена Красной Звезд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СЕИТ НЕБИ АБДУРАМАНОВ"/>
          <p:cNvPicPr/>
          <p:nvPr/>
        </p:nvPicPr>
        <p:blipFill>
          <a:blip r:embed="rId1"/>
          <a:stretch/>
        </p:blipFill>
        <p:spPr>
          <a:xfrm>
            <a:off x="838080" y="1981080"/>
            <a:ext cx="2805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76160" y="3200400"/>
            <a:ext cx="3927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важды Герой Советского Союза АМЕТХАН СУЛТАН - родился 25. 10 1920 г. в г. Алупка Крымской АССР семье рабочег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Amet Han S.jpg"/>
          <p:cNvPicPr/>
          <p:nvPr/>
        </p:nvPicPr>
        <p:blipFill>
          <a:blip r:embed="rId1"/>
          <a:stretch/>
        </p:blipFill>
        <p:spPr>
          <a:xfrm>
            <a:off x="762120" y="1752480"/>
            <a:ext cx="35528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БДУРАИМ РЕШИДОВ - Герой Со­ветского Союз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одился 08. 03. 1912 г. в деревне Мамашай Севастопольского уезда. В 1934 г. окончил Одесскую военную летную шко­л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АБДУРАИМ РЕШИДОВ"/>
          <p:cNvPicPr/>
          <p:nvPr/>
        </p:nvPicPr>
        <p:blipFill>
          <a:blip r:embed="rId1"/>
          <a:stretch/>
        </p:blipFill>
        <p:spPr>
          <a:xfrm>
            <a:off x="1143000" y="1828800"/>
            <a:ext cx="30052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БДУЛЬ ТЕЙФУК- родился в 1915 г. в деревне Партенит Алуштинского района в семье крестьянина. По окончании педагогического техникума в 1935 г. работал учителем в средней школы, заведующим школы и школьным инспектором Алуштинского район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АБДУЛЬ ТЕЙФУК"/>
          <p:cNvPicPr/>
          <p:nvPr/>
        </p:nvPicPr>
        <p:blipFill>
          <a:blip r:embed="rId1"/>
          <a:stretch/>
        </p:blipFill>
        <p:spPr>
          <a:xfrm>
            <a:off x="1143000" y="1676520"/>
            <a:ext cx="308304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ерой Советского Союза АБДУРАМАНОВ УЗЕИР АБДУРАМАНОВИЧ родился 25. 03.1916 г. 1 с. Новоандреевке Симферопольского района Крымской АССР в семье крестьянина. В 1933 г. окончил школу ФЗУ, работал кулинаром, в Советской Армии с 1939 г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Абдураманов Узеир Абдураманович.jpg"/>
          <p:cNvPicPr/>
          <p:nvPr/>
        </p:nvPicPr>
        <p:blipFill>
          <a:blip r:embed="rId1"/>
          <a:stretch/>
        </p:blipFill>
        <p:spPr>
          <a:xfrm>
            <a:off x="457200" y="2438280"/>
            <a:ext cx="4343400" cy="28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ЙТНАФЕ СЕИТВЕЛИЕВ -родился 29. 05. 1919 г. в д. Тав-Кипчак Карасубазарского уезда (ныне Белогорский р-н, Крым). Старший сержант, командир рас­чета 45 мм. пушек истребительно-противотанковой батареи 350 стрелкового пол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СЕЙТНАФЕ СЕИТВЕЛИЕВ"/>
          <p:cNvPicPr/>
          <p:nvPr/>
        </p:nvPicPr>
        <p:blipFill>
          <a:blip r:embed="rId1"/>
          <a:stretch/>
        </p:blipFill>
        <p:spPr>
          <a:xfrm>
            <a:off x="838080" y="1905120"/>
            <a:ext cx="2897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ерой Советского Союза ФЕТИСЛЯМ АБИЛОВ — родился в марте 1915 г. в дре ревне Шейх-Али Джанкойского уезд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питан УМЕР АКМОЛЛА АДАМАНОВ — Герой Польской Республики. Партизанская кличка — "Мишка-татарин". Родился в с. Айвасиль Ялтинского уезда, капитан гвардии Людовой, коман­дир советско-польского партизанского от­ряда им. Котовского, который в годы Ве­ликой Отечественной войны действовал на территории Польш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БИЛОВ АНАТОЛИЙ АБИЛОВИЧ -командир 130-го гвардейского стрелкового полка 44-й гвардейской стрелковой диви­зии 65-й армии 1-го Белорусского фронта, гвардии подполковни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дился 15 марта 1915 г. в деревне Джадрашели, ныне село Ударное Джан­койского района Автономной Республики Крым (Украина), в крестьянской семье. Крымский татарин. Окончил 7 классов. Работал трактористом в колхоз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Анатолий Абилович Абилов.jpg"/>
          <p:cNvPicPr/>
          <p:nvPr/>
        </p:nvPicPr>
        <p:blipFill>
          <a:blip r:embed="rId1"/>
          <a:stretch/>
        </p:blipFill>
        <p:spPr>
          <a:xfrm>
            <a:off x="990720" y="1371600"/>
            <a:ext cx="3078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p</cp:lastModifiedBy>
  <dcterms:modified xsi:type="dcterms:W3CDTF">2015-10-21T16:23:43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