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bomb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9F1F-258A-4428-8A50-B04724C1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E0A0-F9D2-4E39-91A6-34764AC2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2E9A-7E5F-4725-9EC2-05550434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6D21-BA3F-4321-BE22-93117FF0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B313-9625-428E-852A-464C49EB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705B-C99D-42C4-80CB-F0223C7A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2DA3-CE77-4B19-8F46-00B4BE91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2885-D948-4845-8306-7174C8FF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6F89-96C3-452E-8913-5394C9BA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9BFA-8C56-4178-9473-A9304CAE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FF5E-BE3D-4F65-BA1E-E58E561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B381-9F44-4AC9-9C48-636A6E33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A2E4-9601-4E07-8689-DE79A933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9C8C-13F4-4179-8AD3-49C9934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DEAD-A440-488F-B59F-807EC2D0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E139-B2D0-40B6-9A83-72F6F53C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3F46-AB0F-43DD-8E2D-8FE8B0EB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F660-BF4D-4152-A942-624B1E78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0230F-A446-4E43-B458-328E9CA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30EB-28E3-4C7D-8C9C-31E6EB46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15DD-17DF-4C5E-9234-E8B5353D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F621-59A5-4531-9176-58F6F817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C715-CCE9-40E0-AC86-6B12E9CB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8955-437C-427E-84D3-A288C762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690A-90E8-4B18-B50B-6AE4E5632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C1B4-5B5D-47DD-A672-E57CDFD86B3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4CF7-6171-4351-B8B2-34B7DE0F1CE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8771-ACDB-4200-A662-F646ABB179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9696-D25E-42BF-B474-AD4A9FEFC9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ЁНОГО БОГ БЕРЕЖ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пожарная безопас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От чего люди гибнут на пожар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От дыма, огня, ядовитых газов, потери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Шипит и злится, воды боится. С языком, а не лает, без зубов, а кус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Накормишь - живет. Напоишь - умр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Пожар, 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В деревянном домике проживают гномики, уж такие добряки раздают всем огонь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пи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Голова огнем пылает. Тело тает и сгорает. Я полезной быть хочу. Лампы нет я посвеч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веча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вас загорелся телевизор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бесточу, накрою влажным одеялом. Нельзя поливать во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ковороде горит масло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тключу плиту. Закрою крышкой или влажным полотенц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ставить сковороду под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ас горит одежда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Упаду, буду кататься по пол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акрою себя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убе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 видите человека в горящей одежде. Что нужно делать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овалю на пол, накрою курткой,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тушить из огнетуш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00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Отгадай ключевое сло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Если по горизонтали впишете правильные ответы, то в выделенном вертикальном столбце прочтёте ключевое сл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опросы 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Из-за неосторожного обращения с ним может возникнуть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Опасный бытовой при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Травма, которую может получить человек при небрежном обращении с огнё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Длинное вспомогательное средство с поперечными перекладинами, используемое спасателями для эвакуации людей из высотных зд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Первичное средство пожарот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376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224080"/>
          <a:ext cx="6905880" cy="363384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1640"/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2000"/>
              </a:tblGrid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ё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р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ю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57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ж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ц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а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ш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ь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такое эвакуа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о экстренный выход из опасной зоны при Ч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e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Tahoma"/>
              </a:rPr>
              <a:t>Обеспечьте пожарную безопасность кварти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йдите в течение 2-х минут нарушения П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572160" cy="4278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содержится в пожарном ящ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опор, лопата, огнетушитель, багор, и ящик с п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ледует убирать их в шкаф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следует хранить в короб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)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олз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дышать через увлажнённую тка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 полный рост и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в полный рост медле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кач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ржать равновес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ридерживаться палкой потол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опираться на пол ру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BEA9-2EB5-48E8-A92B-478F4C6228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ьте всегда бдитель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блюдайте треб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ОЙ БЕЗОПАСНОСТ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Tahoma"/>
              </a:rPr>
              <a:t>Нарушения пожарной безопасности в квартир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Лампа накрыта ткан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Розетка на стене перегруж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Утюг включё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Электрокабель под ковр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Занавеска находится слишком близко от пли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ка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отенце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чему номер пожарной службы «01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Легко запомнить, короткий номер, логично набрать даже в темноте</a:t>
            </a:r>
            <a:r>
              <a:rPr b="1" lang="en-US" sz="3200" spc="-1" strike="noStrike">
                <a:solidFill>
                  <a:srgbClr val="ebf25a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сделать, когда уходишь из квартиры, чтобы не допустить пожар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Выключить  свет, отключить электроприб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Можно ли бить оконные стекла в очаге возгоран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Нельзя, так как поступающий воздух усиливает г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делать, если огонь отрезал путь к выход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Уйти в дальнюю комнату, плотно закрыть дверь, через окно или балконную дверь кричать о помощи. Прохожие вызовут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ённая электроплита</a:t>
            </a:r>
            <a:r>
              <a:rPr b="1" lang="ru-RU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енная электроплита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03:02Z</dcterms:created>
  <dc:creator/>
  <dc:description/>
  <dc:language>en-US</dc:language>
  <cp:lastModifiedBy>Comp</cp:lastModifiedBy>
  <dcterms:modified xsi:type="dcterms:W3CDTF">2014-09-02T16:41:10Z</dcterms:modified>
  <cp:revision>46</cp:revision>
  <dc:subject/>
  <dc:title>ВИКТОРИНА</dc:title>
</cp:coreProperties>
</file>