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F2DA-95A5-4F16-AE1A-BC396D4CC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1A36-AE5E-4066-BAD7-069EDF9CA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829C-2F60-49F4-91BA-7FDC0F885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561A-2FEB-4748-91E9-D3A05917B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3E481-93F8-478E-9BDE-6C51D74BE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16F55-93C3-4C76-8558-761DF3151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A54A6-203D-4E0C-8B72-AA939694F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DA72F-C060-4297-B197-18ADA0115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FA65C-9AFD-4AED-A496-C4DADDEF3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2C4E1-029A-4158-A6B1-B9E8491B1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12CE8-E8F5-4911-83F2-731A2AB20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9EDE-3F71-45FA-ADB9-92960C1EB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6AEBE-FD87-4868-97ED-C198290D3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D6FBF-88BD-44A4-A0C0-7D80F2EA4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AEC3D-EE62-4428-8BE3-5903F963A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9E727-AD41-401B-8BFD-E0E3EF222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1B297-BA1A-4811-9116-B53083325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707C-C36C-4A23-9599-E571D54F6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26B0-0AFF-4271-A740-5C5213889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FF23-0989-4644-9144-4E0DF01A5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D73B-6A20-4EFE-8FD4-D99B285B2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A10B-EF44-4AC7-BAE6-FC633354B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31C5-A4E5-4BD3-94E0-136FC465E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3C27-A335-4A95-936A-90B88DB75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F32F6-B42D-440D-BAA7-FC7E703E9C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E25EA-5FD1-4B43-B935-F268C114C0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990033"/>
                </a:solidFill>
                <a:latin typeface="Arial Black"/>
              </a:rPr>
              <a:t>Наши земляки.</a:t>
            </a:r>
            <a:br>
              <a:rPr sz="4800"/>
            </a:br>
            <a:r>
              <a:rPr b="0" i="1" lang="en-US" sz="4800" spc="-1" strike="noStrike">
                <a:solidFill>
                  <a:srgbClr val="990033"/>
                </a:solidFill>
                <a:latin typeface="Arial Black"/>
              </a:rPr>
              <a:t>Герои Советского Союза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КАВАЛЕРЫ ОРДЕНОВ СЛАВЫ 3-Х СТЕПЕНЕЙ,ПРИРАВНИВАЮЩИХСЯ К ГЕРОЯМ СОВЕТСКОГО СОЮЗА</a:t>
            </a:r>
            <a:br>
              <a:rPr sz="2400"/>
            </a:b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ЕИТНЕБИ АБДУРАМАНОВ — ро­дился в 1914 г. в деревне Биюк-Каралез Бахчисарайского уезда, гвардии старший сержант, командир отделения разведчи­ков маршевой роты 37-й стрелковой ди­визии, кавалер ордена Красной Звезды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СЕИТ НЕБИ АБДУРАМАНОВ"/>
          <p:cNvPicPr/>
          <p:nvPr/>
        </p:nvPicPr>
        <p:blipFill>
          <a:blip r:embed="rId1"/>
          <a:stretch/>
        </p:blipFill>
        <p:spPr>
          <a:xfrm>
            <a:off x="838080" y="1981080"/>
            <a:ext cx="2805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676160" y="3200400"/>
            <a:ext cx="39272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важды Герой Советского Союза АМЕТХАН СУЛТАН - родился 25. 10 1920 г. в г. Алупка Крымской АССР семье рабочего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Amet Han S.jpg"/>
          <p:cNvPicPr/>
          <p:nvPr/>
        </p:nvPicPr>
        <p:blipFill>
          <a:blip r:embed="rId1"/>
          <a:stretch/>
        </p:blipFill>
        <p:spPr>
          <a:xfrm>
            <a:off x="762120" y="1752480"/>
            <a:ext cx="355284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БДУРАИМ РЕШИДОВ - Герой Со­ветского Союз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одился 08. 03. 1912 г. в деревне Мамашай Севастопольского уезда. В 1934 г. окончил Одесскую военную летную шко­л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АБДУРАИМ РЕШИДОВ"/>
          <p:cNvPicPr/>
          <p:nvPr/>
        </p:nvPicPr>
        <p:blipFill>
          <a:blip r:embed="rId1"/>
          <a:stretch/>
        </p:blipFill>
        <p:spPr>
          <a:xfrm>
            <a:off x="1143000" y="1828800"/>
            <a:ext cx="30052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БДУЛЬ ТЕЙФУК- родился в 1915 г. в деревне Партенит Алуштинского района в семье крестьянина. По окончании педагогического техникума в 1935 г. работал учителем в средней школы, заведующим школы и школьным инспектором Алуштинского район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АБДУЛЬ ТЕЙФУК"/>
          <p:cNvPicPr/>
          <p:nvPr/>
        </p:nvPicPr>
        <p:blipFill>
          <a:blip r:embed="rId1"/>
          <a:stretch/>
        </p:blipFill>
        <p:spPr>
          <a:xfrm>
            <a:off x="1143000" y="1676520"/>
            <a:ext cx="308304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ерой Советского Союза АБДУРАМАНОВ УЗЕИР АБДУРАМАНОВИЧ родился 25. 03.1916 г. 1 с. Новоандреевке Симферопольского района Крымской АССР в семье крестьянина. В 1933 г. окончил школу ФЗУ, работал кулинаром, в Советской Армии с 1939 г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Абдураманов Узеир Абдураманович.jpg"/>
          <p:cNvPicPr/>
          <p:nvPr/>
        </p:nvPicPr>
        <p:blipFill>
          <a:blip r:embed="rId1"/>
          <a:stretch/>
        </p:blipFill>
        <p:spPr>
          <a:xfrm>
            <a:off x="457200" y="2438280"/>
            <a:ext cx="4343400" cy="28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ЕЙТНАФЕ СЕИТВЕЛИЕВ -родился 29. 05. 1919 г. в д. Тав-Кипчак Карасубазарского уезда (ныне Белогорский р-н, Крым). Старший сержант, командир рас­чета 45 мм. пушек истребительно-противотанковой батареи 350 стрелкового пол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СЕЙТНАФЕ СЕИТВЕЛИЕВ"/>
          <p:cNvPicPr/>
          <p:nvPr/>
        </p:nvPicPr>
        <p:blipFill>
          <a:blip r:embed="rId1"/>
          <a:stretch/>
        </p:blipFill>
        <p:spPr>
          <a:xfrm>
            <a:off x="838080" y="1905120"/>
            <a:ext cx="2897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ерой Советского Союза ФЕТИСЛЯМ АБИЛОВ — родился в марте 1915 г. в дре ревне Шейх-Али Джанкойского уезд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питан УМЕР АКМОЛЛА АДАМАНОВ — Герой Польской Республики. Партизанская кличка — "Мишка-татарин". Родился в с. Айвасиль Ялтинского уезда, капитан гвардии Людовой, коман­дир советско-польского партизанского от­ряда им. Котовского, который в годы Ве­ликой Отечественной войны действовал на территории Польш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БИЛОВ АНАТОЛИЙ АБИЛОВИЧ -командир 130-го гвардейского стрелкового полка 44-й гвардейской стрелковой диви­зии 65-й армии 1-го Белорусского фронта, гвардии подполковни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одился 15 марта 1915 г. в деревне Джадрашели, ныне село Ударное Джан­койского района Автономной Республики Крым (Украина), в крестьянской семье. Крымский татарин. Окончил 7 классов. Работал трактористом в колхоз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Анатолий Абилович Абилов.jpg"/>
          <p:cNvPicPr/>
          <p:nvPr/>
        </p:nvPicPr>
        <p:blipFill>
          <a:blip r:embed="rId1"/>
          <a:stretch/>
        </p:blipFill>
        <p:spPr>
          <a:xfrm>
            <a:off x="990720" y="1371600"/>
            <a:ext cx="30780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omp</cp:lastModifiedBy>
  <dcterms:modified xsi:type="dcterms:W3CDTF">2015-10-21T16:23:43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