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F03-66EF-48CB-A899-42292F31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8EC-8A7D-412D-BC05-C2BFB837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6FF-16D5-447C-BB5C-8907664E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DC1-579C-4E1D-8C4B-F8957479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813B-2EFF-4722-A2A1-D348F948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936E-482C-4211-AC72-C5ECA742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7F2B-2035-4251-9555-619D471A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35B7-E052-462D-8DC5-3B121C67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ED08-075D-41D7-97E5-CB13BAB2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F13E-0DD9-4CEC-8E94-3C47194C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99BB-35F5-466F-B626-7A07340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358-59F1-4476-BA36-D487A7AF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8519-E46C-4C02-9D11-C6346A6E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4164-58C2-496A-A540-EFF69E49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38D5-296B-4769-8519-F0F6B8BD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D22A-488E-44D3-99D8-CEDD1F83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B0E7-2EA3-4083-AC6F-1692643D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52F-3F27-44E0-A1ED-1A0EF644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AD7-67D5-4350-A790-359A812A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129-5552-4C62-8B63-45E3E22B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D61-5668-42D7-971D-FBBE01BB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41E-BB8B-4BF1-B644-41055171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32A-A3C2-4CAC-834C-91C84081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C70-7D1C-416F-A1FD-42103A8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4522-4EA8-4DDD-8046-502BABAAF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827D-A351-49B8-AB9F-D95AFD270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Наши земляки.</a:t>
            </a:r>
            <a:br>
              <a:rPr sz="4800"/>
            </a:b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Герои Советского Союз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ВАЛЕРЫ ОРДЕНОВ СЛАВЫ 3-Х СТЕПЕНЕЙ,ПРИРАВНИВАЮЩИХСЯ К ГЕРОЯМ СОВЕТСКОГО СОЮЗА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ИТНЕБИ АБДУРАМАНОВ — ро­дился в 1914 г. в деревне Биюк-Каралез Бахчисарайского уезда, гвардии старший сержант, командир отделения разведчи­ков маршевой роты 37-й стрелковой ди­визии, кавалер ордена Красной Звез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СЕИТ НЕБИ АБДУРАМАНОВ"/>
          <p:cNvPicPr/>
          <p:nvPr/>
        </p:nvPicPr>
        <p:blipFill>
          <a:blip r:embed="rId1"/>
          <a:stretch/>
        </p:blipFill>
        <p:spPr>
          <a:xfrm>
            <a:off x="838080" y="1981080"/>
            <a:ext cx="280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32004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жды Герой Советского Союза АМЕТХАН СУЛТАН - родился 25. 10 1920 г. в г. Алупка Крымской АССР семье рабоч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Amet Han S.jpg"/>
          <p:cNvPicPr/>
          <p:nvPr/>
        </p:nvPicPr>
        <p:blipFill>
          <a:blip r:embed="rId1"/>
          <a:stretch/>
        </p:blipFill>
        <p:spPr>
          <a:xfrm>
            <a:off x="762120" y="1752480"/>
            <a:ext cx="3552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РАИМ РЕШИДОВ - Герой Со­ветского Сою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лся 08. 03. 1912 г. в деревне Мамашай Севастопольского уезда. В 1934 г. окончил Одесскую военную летную шко­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АБДУРАИМ РЕШИДОВ"/>
          <p:cNvPicPr/>
          <p:nvPr/>
        </p:nvPicPr>
        <p:blipFill>
          <a:blip r:embed="rId1"/>
          <a:stretch/>
        </p:blipFill>
        <p:spPr>
          <a:xfrm>
            <a:off x="1143000" y="1828800"/>
            <a:ext cx="300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ЛЬ ТЕЙФУК- родился в 1915 г. в деревне Партенит Алуштинского района в семье крестьянина. По окончании педагогического техникума в 1935 г. работал учителем в средней школы, заведующим школы и школьным инспектором Алуштинского рай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АБДУЛЬ ТЕЙФУК"/>
          <p:cNvPicPr/>
          <p:nvPr/>
        </p:nvPicPr>
        <p:blipFill>
          <a:blip r:embed="rId1"/>
          <a:stretch/>
        </p:blipFill>
        <p:spPr>
          <a:xfrm>
            <a:off x="1143000" y="1676520"/>
            <a:ext cx="308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й Советского Союза АБДУРАМАНОВ УЗЕИР АБДУРАМАНОВИЧ родился 25. 03.1916 г. 1 с. Новоандреевке Симферопольского района Крымской АССР в семье крестьянина. В 1933 г. окончил школу ФЗУ, работал кулинаром, в Советской Армии с 1939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Абдураманов Узеир Абдураманович.jpg"/>
          <p:cNvPicPr/>
          <p:nvPr/>
        </p:nvPicPr>
        <p:blipFill>
          <a:blip r:embed="rId1"/>
          <a:stretch/>
        </p:blipFill>
        <p:spPr>
          <a:xfrm>
            <a:off x="457200" y="2438280"/>
            <a:ext cx="43434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ТНАФЕ СЕИТВЕЛИЕВ -родился 29. 05. 1919 г. в д. Тав-Кипчак Карасубазарского уезда (ныне Белогорский р-н, Крым). Старший сержант, командир рас­чета 45 мм. пушек истребительно-противотанковой батареи 350 стрелкового по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СЕЙТНАФЕ СЕИТВЕЛИЕВ"/>
          <p:cNvPicPr/>
          <p:nvPr/>
        </p:nvPicPr>
        <p:blipFill>
          <a:blip r:embed="rId1"/>
          <a:stretch/>
        </p:blipFill>
        <p:spPr>
          <a:xfrm>
            <a:off x="838080" y="1905120"/>
            <a:ext cx="289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ой Советского Союза ФЕТИСЛЯМ АБИЛОВ — родился в марте 1915 г. в дре ревне Шейх-Али Джанкойского уез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н УМЕР АКМОЛЛА АДАМАНОВ — Герой Польской Республики. Партизанская кличка — "Мишка-татарин". Родился в с. Айвасиль Ялтинского уезда, капитан гвардии Людовой, коман­дир советско-польского партизанского от­ряда им. Котовского, который в годы Ве­ликой Отечественной войны действовал на территории Поль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ИЛОВ АНАТОЛИЙ АБИЛОВИЧ -командир 130-го гвардейского стрелкового полка 44-й гвардейской стрелковой диви­зии 65-й армии 1-го Белорусского фронта, гвардии подполков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15 марта 1915 г. в деревне Джадрашели, ныне село Ударное Джан­койского района Автономной Республики Крым (Украина), в крестьянской семье. Крымский татарин. Окончил 7 классов. Работал трактористом в колхо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Анатолий Абилович Абилов.jpg"/>
          <p:cNvPicPr/>
          <p:nvPr/>
        </p:nvPicPr>
        <p:blipFill>
          <a:blip r:embed="rId1"/>
          <a:stretch/>
        </p:blipFill>
        <p:spPr>
          <a:xfrm>
            <a:off x="990720" y="1371600"/>
            <a:ext cx="3078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10-21T16:23:4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