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1.wmf" ContentType="image/x-wmf"/>
  <Override PartName="/ppt/media/image6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200-D919-47B5-8BE9-00F407CF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336-7945-4AA0-919B-52C12F8D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56F-9578-435C-93BB-30497A0F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07B-A664-4940-9FAC-B7D45B94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AE2B-38C8-4FBA-A950-C4B47CD2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775D-497E-44EA-8514-2B87CF53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605F-99EC-467F-9D86-136F03A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62E3-A8BC-4F09-A3A4-182B5BD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CA3-E2F7-4692-B97A-99E8791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AA79-C3FA-4197-9233-38AAFA08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DEEB-0D35-40C9-99CE-B47CF6F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C62-1A61-4DE6-97ED-3A0CADE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DBC-2596-404D-A6C4-487D0F10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22C4-2496-41D9-B756-51B081A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057-C2FA-48D6-8697-235C682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DFC3-5789-4BF9-A2EF-C00DC153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A06-2E79-4A6D-8EBA-39EDC3F8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FAD-B2AD-4E12-BD57-C30E8C30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D04-A799-4AF5-B1B0-65BD9F59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4C5-3C93-4E2B-8C4F-B36749A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A3F-0E6D-428F-9357-52C506BA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DDB-23C8-4B17-A2A7-3F20D3F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292-5614-4F93-84B5-65A5313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B17-C0B6-4248-95D1-8CA1415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00D5-8748-401B-A8DD-8CCE85FA1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32C-26F6-4BDE-BD77-DE2D4C61A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rcRect l="0" t="0" r="0" b="6189"/>
          <a:stretch/>
        </p:blipFill>
        <p:spPr>
          <a:xfrm>
            <a:off x="3048120" y="3917880"/>
            <a:ext cx="6324480" cy="278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Comp</cp:lastModifiedBy>
  <dcterms:modified xsi:type="dcterms:W3CDTF">2016-02-03T17:26:0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