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chimes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bomb.wav" ContentType="audio/x-wav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2B287-F8A0-4BCD-92CC-426D529A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46FB4-2A07-4D80-86BD-C40CFA1D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74402-5647-497C-9BED-364DCE9F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BB487-E821-45CF-B9CE-D1FB0E8F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3CCB-BFEF-42FB-AF76-39696899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5BE9-DF8A-4EE4-B8F0-A628090B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86B1-6494-4073-8803-BC3F16E0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8963-4508-47DD-ADEC-6E565B9B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0F1C-6401-48EB-AB74-E7A9F7AE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DDE9-8D87-484A-9764-D67634E3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A586-575A-43DA-B719-A9AD7669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B6072-0BBE-4457-8A0C-60CC7B66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2253-8591-4790-AB77-47CF27A7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040C-E8F4-4944-A38A-1A7D25EE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AFE7-C3ED-4134-8B1C-4396719C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C6C9-1D1D-4FE5-8350-EE483136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7525-35CB-40DB-BB72-D5A08D0D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A86A5-35F2-45F3-9420-C82E02EA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E80A8-90E3-452B-9E09-DCDEEAD0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5F38C-0ADF-4249-B8BC-4D6902A0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8E8A1-F8CC-42BB-8BAC-D7394156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B722F-FF45-42F6-B247-82148161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FDB2C-FCBD-4332-8FAB-EE0F73FE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E9300-35AB-4949-BE8A-4D4418D7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BB4D-6A9E-4BB9-B659-628A069C64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DCD9-C848-465A-B0F5-B77160817B67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5BC4-B7B2-4487-9C7A-E477791BA79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E811-C270-4B24-A7D4-353FA98222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A2B5-FF89-41EB-9BD0-563C18696C2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ВИКТОРИН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РЕЖЁНОГО БОГ БЕРЕЖЁ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пожарная безопаснос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От чего люди гибнут на пожар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От дыма, огня, ядовитых газов, потери созн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4740"/>
                </a:solidFill>
                <a:latin typeface="Tahoma"/>
              </a:rPr>
              <a:t>ЗАГАД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Шипит и злится, воды боится. С языком, а не лает, без зубов, а куса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Tahoma"/>
              </a:rPr>
              <a:t>(Огон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Накормишь - живет. Напоишь - умр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Tahoma"/>
              </a:rPr>
              <a:t>(Пожар, огон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4740"/>
                </a:solidFill>
                <a:latin typeface="Tahoma"/>
              </a:rPr>
              <a:t>ЗАГАД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В деревянном домике проживают гномики, уж такие добряки раздают всем огонь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Tahoma"/>
              </a:rPr>
              <a:t>(Спич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Голова огнем пылает. Тело тает и сгорает. Я полезной быть хочу. Лампы нет я посвеч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Tahoma"/>
              </a:rPr>
              <a:t>(Свеча)</a:t>
            </a: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вас загорелся телевизор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Обесточу, накрою влажным одеялом. Нельзя поливать вод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сковороде горит масло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Отключу плиту. Закрою крышкой или влажным полотенце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ставить сковороду под в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вас горит одежда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Упаду, буду кататься по полу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акрою себя одеял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убег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 видите человека в горящей одежде. Что нужно делать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Повалю на пол, накрою курткой, одеял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тушить из огнетуши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e500"/>
            </a:gs>
            <a:gs pos="100000">
              <a:srgbClr val="f8b0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Отгадай ключевое слово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Если по горизонтали впишете правильные ответы, то в выделенном вертикальном столбце прочтёте ключевое сло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Вопросы по горизонт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Из-за неосторожного обращения с ним может возникнуть пожа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Опасный бытовой приб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Травма, которую может получить человек при небрежном обращении с огнё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Длинное вспомогательное средство с поперечными перекладинами, используемое спасателями для эвакуации людей из высотных зда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Первичное средство пожаротуш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8497800" cy="23763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push.wav"/>
      </p:stSnd>
    </p:sndAc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ответ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23880" y="2224080"/>
          <a:ext cx="6905880" cy="363384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2000"/>
                <a:gridCol w="431640"/>
                <a:gridCol w="430200"/>
                <a:gridCol w="432000"/>
                <a:gridCol w="431640"/>
                <a:gridCol w="431640"/>
                <a:gridCol w="432000"/>
                <a:gridCol w="431640"/>
                <a:gridCol w="432000"/>
                <a:gridCol w="431640"/>
                <a:gridCol w="430200"/>
                <a:gridCol w="432000"/>
                <a:gridCol w="431640"/>
                <a:gridCol w="432000"/>
              </a:tblGrid>
              <a:tr h="727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к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с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ё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р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у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ю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257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ж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6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с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н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и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ц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а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7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н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у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ш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и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ь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newsflash/>
    <p:sndAc>
      <p:stSnd>
        <p:snd r:embed="rId1" name="pu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206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то такое эвакуаци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Это экстренный выход из опасной зоны при Ч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e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060"/>
                </a:solidFill>
                <a:latin typeface="Tahoma"/>
              </a:rPr>
              <a:t>Обеспечьте пожарную безопасность квартиры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Найдите в течение 2-х минут нарушения ПБ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428840" y="2143080"/>
            <a:ext cx="6572160" cy="42782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push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206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то содержится в пожарном ящик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топор, лопата, огнетушитель, багор, и ящик с пес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u"/>
    <p:sndAc>
      <p:stSnd>
        <p:snd r:embed="rId1" name="chimes.wav"/>
      </p:stSnd>
    </p:sndAc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В каком виде необходимо содержать электроприборы и электрическое оборудов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следует убирать их в шкаф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следует хранить в короб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ледует содержать в исправном вид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содержать в рабочем состоянии выключатели, вилки, розетки, электроснабж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В каком виде необходимо содержать электроприборы и электрическое оборудов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ледует содержать в исправном вид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содержать в рабочем состоянии выключатели, вилки, розетки, электроснабж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рекомендуется преодолевать горящее помещение при выходе из не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А) бег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ползк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накрывшись с головой мокрым одеялом, плотной тканью или верхней одежд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дышать через увлажнённую тка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Как рекомендуется преодолевать горящее помещение при выходе из не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накрывшись с головой мокрым одеялом, плотной тканью или верхней одежд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нужно продвигаться через сильно задымлённое помещ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 полный рост и бег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в полный рост медленн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качк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ползком или пригнувшись, придерживаясь за сте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нужно продвигаться через сильно задымлённое помещ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ползком или пригнувшись, придерживаясь за сте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Что необходимо предпринять человеку, чтобы не потерять ориентировку в сильно задымлённом помеще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держать равновес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придерживаться палкой потол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придерживаться сте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опираться на пол рук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Что необходимо предпринять человеку, чтобы не потерять ориентировку в сильно задымлённом помеще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придерживаться сте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A06C-FB4F-4B88-A274-4E526907998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дьте всегда бдительны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блюдайте требо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ЖАРНОЙ БЕЗОПАСНОСТ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030a0"/>
                </a:solidFill>
                <a:latin typeface="Tahoma"/>
              </a:rPr>
              <a:t>Нарушения пожарной безопасности в квартире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Лампа накрыта ткан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Розетка на стене перегруж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Утюг включё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Электрокабель под коврик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Занавеска находится слишком близко от пли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Полка висит над плит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Полотенце висит над плит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Почему номер пожарной службы «01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Легко запомнить, короткий номер, логично набрать даже в темноте</a:t>
            </a:r>
            <a:r>
              <a:rPr b="1" lang="en-US" sz="3200" spc="-1" strike="noStrike">
                <a:solidFill>
                  <a:srgbClr val="ebf25a"/>
                </a:solidFill>
                <a:latin typeface="Script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Что нужно сделать, когда уходишь из квартиры, чтобы не допустить пожар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Выключить  свет, отключить электроприбо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Можно ли бить оконные стекла в очаге возгорани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Нельзя, так как поступающий воздух усиливает го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Что нужно делать, если огонь отрезал путь к выходу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Уйти в дальнюю комнату, плотно закрыть дверь, через окно или балконную дверь кричать о помощи. Прохожие вызовут «01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Назовите три любые причины пожа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ahoma"/>
              </a:rPr>
              <a:t>Непотушенная сигарета, игра со спичками, неотключённая электроплита</a:t>
            </a:r>
            <a:r>
              <a:rPr b="1" lang="ru-RU" sz="32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Назовите три любые причины пожа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ahoma"/>
              </a:rPr>
              <a:t>Непотушенная сигарета, игра со спичками, неотключенная электроплита</a:t>
            </a: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2:03:02Z</dcterms:created>
  <dc:creator/>
  <dc:description/>
  <dc:language>en-US</dc:language>
  <cp:lastModifiedBy>Comp</cp:lastModifiedBy>
  <dcterms:modified xsi:type="dcterms:W3CDTF">2014-09-02T16:41:10Z</dcterms:modified>
  <cp:revision>46</cp:revision>
  <dc:subject/>
  <dc:title>ВИКТОРИНА</dc:title>
</cp:coreProperties>
</file>