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chimes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bomb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B539-9558-4A34-925D-0B6E2FFF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9351-4853-4889-BA91-84499A24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1B93-384B-4250-B57D-35672B02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FBF4-6795-4E51-BFB8-1063C03E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1D38-BA9A-4728-8526-FA06D58B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5E6E-0335-40E8-9FED-1DC61B8C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3BC4-3F33-49D5-BC56-E3064BB0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4782-CC01-4F9F-BC77-B900D8D4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B21C-AE3D-499B-8C6F-6BDF7763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6923-B434-4719-967D-FEDE7787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4E8D-C2B3-47B6-88CA-BBDEED5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609C-DC1A-42D3-950F-9AE29683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2744-B1BD-43C1-9237-08BC352D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5F8A-676B-4281-914F-AAAB204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C15A-4D37-4439-92D8-D3A2ED26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76F7-FA7C-48E7-8F4A-1240386B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3EDB-FE77-4EDE-A290-87A20620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AA62-68FE-44DE-A184-71F874C2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CFFE-7899-4E44-BDDE-3388C779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33A6-CCE0-4BCF-BBBD-3D2B0A6A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631E-8998-4EEB-A5E9-E5EAAAE1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DA1C-225E-48F8-97B9-AEE5F3C7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20D5-BB25-4C28-B7A2-50B965F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85AC-D219-47AB-8B45-EED22C47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598B-ABEB-4484-9227-227C7EF964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6564-D05C-4701-8B47-ECD9E99B27F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E303-98B4-4C67-AFCC-EDE37F9F493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6D8F-7917-4775-A84E-B09096563D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D5D1-8BEE-4FA0-9187-2C45CAF87A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ВИКТОРИ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ЁНОГО БОГ БЕРЕЖ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пожарная безопас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От чего люди гибнут на пожар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От дыма, огня, ядовитых газов, потери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Шипит и злится, воды боится. С языком, а не лает, без зубов, а куса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Накормишь - живет. Напоишь - умр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ahoma"/>
              </a:rPr>
              <a:t>(Пожар, огон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4740"/>
                </a:solidFill>
                <a:latin typeface="Tahoma"/>
              </a:rPr>
              <a:t>ЗАГАД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В деревянном домике проживают гномики, уж такие добряки раздают всем огонь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пи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Голова огнем пылает. Тело тает и сгорает. Я полезной быть хочу. Лампы нет я посвеч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ahoma"/>
              </a:rPr>
              <a:t>(Свеча)</a:t>
            </a:r>
            <a:r>
              <a:rPr b="0" lang="en-US" sz="32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вас загорелся телевизор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бесточу, накрою влажным одеялом. Нельзя поливать вод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ковороде горит масло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Отключу плиту. Закрою крышкой или влажным полотенце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ставить сковороду под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вас горит одежда. Ваши действия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Упаду, буду кататься по пол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акрою себя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убе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ИГРОВЫЕ СИТУ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 видите человека в горящей одежде. Что нужно делать? Что делать нельз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овалю на пол, накрою курткой, одея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Нельзя тушить из огнетуш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e500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Отгадай ключевое сло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Если по горизонтали впишете правильные ответы, то в выделенном вертикальном столбце прочтёте ключевое сло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опросы 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Из-за неосторожного обращения с ним может возникнуть пож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Опасный бытовой приб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Травма, которую может получить человек при небрежном обращении с огнё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Длинное вспомогательное средство с поперечными перекладинами, используемое спасателями для эвакуации людей из высотных зд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Первичное средство пожаротуш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376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3880" y="2224080"/>
          <a:ext cx="6905880" cy="363384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1640"/>
                <a:gridCol w="432000"/>
                <a:gridCol w="431640"/>
                <a:gridCol w="432000"/>
                <a:gridCol w="431640"/>
                <a:gridCol w="430200"/>
                <a:gridCol w="432000"/>
                <a:gridCol w="431640"/>
                <a:gridCol w="432000"/>
              </a:tblGrid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ё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р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ю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57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ж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с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ц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а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о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г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ш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е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d0d0d"/>
                          </a:solidFill>
                          <a:latin typeface="Script MT Bold"/>
                        </a:rPr>
                        <a:t>ь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0000"/>
                          </a:solidFill>
                          <a:latin typeface="Script MT Bold"/>
                        </a:rPr>
                        <a:t> 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  <p:sndAc>
      <p:stSnd>
        <p:snd r:embed="rId1" name="pu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такое эвакуа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то экстренный выход из опасной зоны при Ч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e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Tahoma"/>
              </a:rPr>
              <a:t>Обеспечьте пожарную безопасность кварти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Найдите в течение 2-х минут нарушения ПБ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28840" y="2143080"/>
            <a:ext cx="6572160" cy="4278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push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206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Что содержится в пожарном ящ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опор, лопата, огнетушитель, багор, и ящик с пе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  <p:sndAc>
      <p:stSnd>
        <p:snd r:embed="rId1" name="chimes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следует убирать их в шкаф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следует хранить в короб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В каком виде необходимо содержать электроприборы и электрическое оборудов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ледует содержать в исправном ви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содержать в рабочем состоянии выключатели, вилки, розетки, электроснаб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А)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олзк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дышать через увлажнённую тка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рекомендуется преодолевать горящее помещение при выходе из не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накрывшись с головой мокрым одеялом, плотной тканью или верхней одежд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 полный рост и бег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в полный рост медле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скач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Как нужно продвигаться через сильно задымлённое помещ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ползком или пригнувшись, придерживаясь за ст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держать равновес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Б) придерживаться палкой потол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Г) следует опираться на пол ру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Что необходимо предпринять человеку, чтобы не потерять ориентировку в сильно задымлённом помещ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В) придерживаться сте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2" name="bomb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710F-187F-457F-A0DF-A7309929EF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дьте всегда бдитель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блюдайте треб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ОЙ БЕЗОПАСНОСТ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030a0"/>
                </a:solidFill>
                <a:latin typeface="Tahoma"/>
              </a:rPr>
              <a:t>Нарушения пожарной безопасности в квартир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Лампа накрыта ткан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Розетка на стене перегруже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Утюг включё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Электрокабель под коври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Занавеска находится слишком близко от пли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ка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Полотенце висит над пли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Почему номер пожарной службы «01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Легко запомнить, короткий номер, логично набрать даже в темноте</a:t>
            </a:r>
            <a:r>
              <a:rPr b="1" lang="en-US" sz="3200" spc="-1" strike="noStrike">
                <a:solidFill>
                  <a:srgbClr val="ebf25a"/>
                </a:solidFill>
                <a:latin typeface="Script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сделать, когда уходишь из квартиры, чтобы не допустить пожар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Выключить  свет, отключить электроприб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Можно ли бить оконные стекла в очаге возгоран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Нельзя, так как поступающий воздух усиливает г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Что нужно делать, если огонь отрезал путь к выход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ahoma"/>
              </a:rPr>
              <a:t>Уйти в дальнюю комнату, плотно закрыть дверь, через окно или балконную дверь кричать о помощи. Прохожие вызовут «01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ённая электроплита</a:t>
            </a:r>
            <a:r>
              <a:rPr b="1" lang="ru-RU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ahoma"/>
              </a:rPr>
              <a:t>ВОПРОС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азовите три любые причины пожа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Tahoma"/>
              </a:rPr>
              <a:t>Непотушенная сигарета, игра со спичками, неотключенная электроплита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2:03:02Z</dcterms:created>
  <dc:creator/>
  <dc:description/>
  <dc:language>en-US</dc:language>
  <cp:lastModifiedBy>Comp</cp:lastModifiedBy>
  <dcterms:modified xsi:type="dcterms:W3CDTF">2014-09-02T16:41:10Z</dcterms:modified>
  <cp:revision>46</cp:revision>
  <dc:subject/>
  <dc:title>ВИКТОРИНА</dc:title>
</cp:coreProperties>
</file>