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bomb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B0AE-2FE1-40C9-BE1A-B08F263E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8178-46C8-4CF2-923E-6ACD9FCE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A8E1-4B9F-4F25-BE5F-4BCCD17F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096E-4710-4DB0-84CD-B48D1688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E6B6-4CC5-4934-ABB9-EEA469EC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8F84-D398-4C89-B2EC-0B35618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6297-D195-4BDD-84F1-7CA01B48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8040-4F4B-4A5F-9471-7461B4EF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63EC-17E4-4D60-B20B-7EE1268E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B2FD-7657-4A35-AA03-A71A2CBE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D013-A014-4425-87AA-4EDFFB7F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2A69-E0E2-4EEB-8903-D2156117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9E8E-24ED-4D89-812A-A1B5FEA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52FC-816D-42C3-B2FE-1374B1F1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76B2-F6DA-4CAF-B70E-E2AA6FD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AEC2-C7D6-4172-A675-57719355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B49-9B15-44F5-A520-8E2FF14F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03A3-26FA-477B-B059-574CD2A1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4DCD-1CC5-4EC4-8106-53B0C2EE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044A-40A4-4FB9-AE42-59754529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6C17-94E8-4C3D-9CCE-C891C130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6B9E-BEC0-4745-B71B-1FE01E21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CBF6-ABB4-4CCC-ADCC-C70C75DC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D619-B170-4195-B3A7-C1635AA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9326-9C81-4C11-BACE-71CD9372ED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FB7B-62BF-4AAD-B746-E92601DC269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C354-2BC2-41ED-A41D-39E55D354C7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25A7-B212-490D-832D-CF0DCF0BEF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D7D2-2906-4603-8DCF-11B98EAC1A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ЁНОГО БОГ БЕРЕЖ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пожарная безопас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От чего люди гибнут на пожар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От дыма, огня, ядовитых газов, потери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Шипит и злится, воды боится. С языком, а не лает, без зубов, а кус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Накормишь - живет. Напоишь - умр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Пожар, 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В деревянном домике проживают гномики, уж такие добряки раздают всем огонь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пи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Голова огнем пылает. Тело тает и сгорает. Я полезной быть хочу. Лампы нет я посвеч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веча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вас загорелся телевизор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бесточу, накрою влажным одеялом. Нельзя поливать во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ковороде горит масло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тключу плиту. Закрою крышкой или влажным полотенц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ставить сковороду под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ас горит одежда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Упаду, буду кататься по пол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акрою себя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убе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 видите человека в горящей одежде. Что нужно делать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овалю на пол, накрою курткой,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тушить из огнетуш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00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Отгадай ключевое сло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Если по горизонтали впишете правильные ответы, то в выделенном вертикальном столбце прочтёте ключевое сл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опросы 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Из-за неосторожного обращения с ним может возникнуть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Опасный бытовой при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Травма, которую может получить человек при небрежном обращении с огнё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Длинное вспомогательное средство с поперечными перекладинами, используемое спасателями для эвакуации людей из высотных зд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Первичное средство пожарот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376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224080"/>
          <a:ext cx="6905880" cy="363384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1640"/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2000"/>
              </a:tblGrid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ё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р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ю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57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ж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ц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а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ш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ь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такое эвакуа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о экстренный выход из опасной зоны при Ч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e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Tahoma"/>
              </a:rPr>
              <a:t>Обеспечьте пожарную безопасность кварти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йдите в течение 2-х минут нарушения П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572160" cy="4278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содержится в пожарном ящ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опор, лопата, огнетушитель, багор, и ящик с п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ледует убирать их в шкаф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следует хранить в короб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)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олз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дышать через увлажнённую тка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 полный рост и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в полный рост медле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кач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ржать равновес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ридерживаться палкой потол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опираться на пол ру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2EC5-9214-49EC-8B7B-0B8D6E44B8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ьте всегда бдитель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блюдайте треб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ОЙ БЕЗОПАСНОСТ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Tahoma"/>
              </a:rPr>
              <a:t>Нарушения пожарной безопасности в квартир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Лампа накрыта ткан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Розетка на стене перегруж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Утюг включё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Электрокабель под ковр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Занавеска находится слишком близко от пли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ка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отенце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чему номер пожарной службы «01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Легко запомнить, короткий номер, логично набрать даже в темноте</a:t>
            </a:r>
            <a:r>
              <a:rPr b="1" lang="en-US" sz="3200" spc="-1" strike="noStrike">
                <a:solidFill>
                  <a:srgbClr val="ebf25a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сделать, когда уходишь из квартиры, чтобы не допустить пожар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Выключить  свет, отключить электроприб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Можно ли бить оконные стекла в очаге возгоран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Нельзя, так как поступающий воздух усиливает г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делать, если огонь отрезал путь к выход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Уйти в дальнюю комнату, плотно закрыть дверь, через окно или балконную дверь кричать о помощи. Прохожие вызовут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ённая электроплита</a:t>
            </a:r>
            <a:r>
              <a:rPr b="1" lang="ru-RU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енная электроплита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03:02Z</dcterms:created>
  <dc:creator/>
  <dc:description/>
  <dc:language>en-US</dc:language>
  <cp:lastModifiedBy>Comp</cp:lastModifiedBy>
  <dcterms:modified xsi:type="dcterms:W3CDTF">2014-09-02T16:41:10Z</dcterms:modified>
  <cp:revision>46</cp:revision>
  <dc:subject/>
  <dc:title>ВИКТОРИНА</dc:title>
</cp:coreProperties>
</file>