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2.wmf" ContentType="image/x-wmf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33.jpeg" ContentType="image/jpeg"/>
  <Override PartName="/ppt/media/image21.wmf" ContentType="image/x-wmf"/>
  <Override PartName="/ppt/media/image6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7.gif" ContentType="image/gif"/>
  <Override PartName="/ppt/media/image32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30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.wmf" ContentType="image/x-wmf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1E35-1707-4AB1-A0B4-8B8617C4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240-BC7B-4404-87F9-DD43D0D5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8FE8-FC1C-4A8C-89B0-60BD9E28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FA00-E5B1-4D65-973B-093ABCE3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6AD3-51CE-47C3-9A40-1683F2E4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9724-21C4-4546-A2F1-B415905E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9628-C3DD-4804-BC70-D9956D5C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51D8-03D5-4938-B979-01F0E245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236D-8CBE-4514-B87C-60D4BCCB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0F07-EB78-4C48-B790-CE59A02E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2DC9-079D-43A0-A7BA-87432205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5922-40C3-4ED8-9849-B0C33115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51E9-B122-41F3-8A9E-A118252E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E47B-0024-4C95-A653-ED4E4120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85AE-E43D-480D-849D-0962529D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F263-84BF-437E-9559-6733F9E9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F698-A1F2-4BC9-94AE-2E69E470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BEE1-AF6A-401A-9710-A4F8C935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7815-300E-49F5-84FA-02496282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7EEC-0170-4E7E-9013-887CD220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D855-DA85-4EFB-8AAB-4C3A99F6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C41C-1190-4BD3-B974-5CBF6016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2AE2-1AF3-487B-B37E-6B0B596C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B873-0D58-4127-B796-79E2609E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DE6B-B618-4535-8688-438227101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E4C7-F956-463F-9D20-048E65F9FF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685800" y="917640"/>
            <a:ext cx="8153280" cy="22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600"/>
                </a:solidFill>
                <a:latin typeface="Book Antiqua"/>
              </a:rPr>
              <a:t>«Профилактика ОРВИ и гриппа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3581280" y="5105520"/>
            <a:ext cx="32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0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  <p:pic>
        <p:nvPicPr>
          <p:cNvPr id="101" name="Picture 12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2114640" cy="3353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8" descr="5.jpg"/>
          <p:cNvPicPr/>
          <p:nvPr/>
        </p:nvPicPr>
        <p:blipFill>
          <a:blip r:embed="rId3"/>
          <a:stretch/>
        </p:blipFill>
        <p:spPr>
          <a:xfrm>
            <a:off x="5410080" y="3657600"/>
            <a:ext cx="23418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14440" y="1904760"/>
            <a:ext cx="4730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доровый образ жизн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статочный со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ильное пит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кали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изическая актив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ЗОЖ"/>
          <p:cNvPicPr/>
          <p:nvPr/>
        </p:nvPicPr>
        <p:blipFill>
          <a:blip r:embed="rId1"/>
          <a:stretch/>
        </p:blipFill>
        <p:spPr>
          <a:xfrm>
            <a:off x="533520" y="167652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ЗОЖ1"/>
          <p:cNvPicPr/>
          <p:nvPr/>
        </p:nvPicPr>
        <p:blipFill>
          <a:blip r:embed="rId2"/>
          <a:stretch/>
        </p:blipFill>
        <p:spPr>
          <a:xfrm>
            <a:off x="990720" y="4495680"/>
            <a:ext cx="2933640" cy="160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ЗОЖ2"/>
          <p:cNvPicPr/>
          <p:nvPr/>
        </p:nvPicPr>
        <p:blipFill>
          <a:blip r:embed="rId3"/>
          <a:stretch/>
        </p:blipFill>
        <p:spPr>
          <a:xfrm>
            <a:off x="7238880" y="5105520"/>
            <a:ext cx="146700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86200" y="1905120"/>
            <a:ext cx="4959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авильно    используйте медицинскую маск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2438280" cy="2301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грипп3"/>
          <p:cNvPicPr/>
          <p:nvPr/>
        </p:nvPicPr>
        <p:blipFill>
          <a:blip r:embed="rId2"/>
          <a:stretch/>
        </p:blipFill>
        <p:spPr>
          <a:xfrm>
            <a:off x="2971800" y="4572000"/>
            <a:ext cx="358128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Я ЗАБОЛЕЛ. Что делать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6520" y="1523520"/>
            <a:ext cx="6178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вести к минимуму контакт с другими люд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блюдать постельный реж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ратиться за медицинской помощ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блюдать правила личной гигиены, использовать медицинскую ма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ить м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дк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стресс2"/>
          <p:cNvPicPr/>
          <p:nvPr/>
        </p:nvPicPr>
        <p:blipFill>
          <a:blip r:embed="rId1"/>
          <a:stretch/>
        </p:blipFill>
        <p:spPr>
          <a:xfrm>
            <a:off x="228600" y="2286000"/>
            <a:ext cx="2514600" cy="2438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уход"/>
          <p:cNvPicPr/>
          <p:nvPr/>
        </p:nvPicPr>
        <p:blipFill>
          <a:blip r:embed="rId2"/>
          <a:stretch/>
        </p:blipFill>
        <p:spPr>
          <a:xfrm>
            <a:off x="6248520" y="4952880"/>
            <a:ext cx="243828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ЕСЛИ В ДОМЕ БОЛЬНО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9880" y="1904760"/>
            <a:ext cx="503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местить больного в отдельной комна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делить для больного отдельные предметы туалета, посуды, постельного бел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астое проветривание и влажная уборка поме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 уходе за больным использовать маску, часто мыть ру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уход1"/>
          <p:cNvPicPr/>
          <p:nvPr/>
        </p:nvPicPr>
        <p:blipFill>
          <a:blip r:embed="rId1"/>
          <a:stretch/>
        </p:blipFill>
        <p:spPr>
          <a:xfrm>
            <a:off x="457200" y="1676520"/>
            <a:ext cx="3048120" cy="2590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гигиенические навыки"/>
          <p:cNvPicPr/>
          <p:nvPr/>
        </p:nvPicPr>
        <p:blipFill>
          <a:blip r:embed="rId2"/>
          <a:stretch/>
        </p:blipFill>
        <p:spPr>
          <a:xfrm>
            <a:off x="1523880" y="5181480"/>
            <a:ext cx="2362320" cy="1524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12189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7"/>
          <p:cNvSpPr/>
          <p:nvPr/>
        </p:nvSpPr>
        <p:spPr>
          <a:xfrm>
            <a:off x="684360" y="4797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УДЬТЕ ЗДОРОВЫ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2627280" y="260280"/>
            <a:ext cx="3816360" cy="388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ути передачи инфекц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2590920" cy="2667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8" descr="5.jpg"/>
          <p:cNvPicPr/>
          <p:nvPr/>
        </p:nvPicPr>
        <p:blipFill>
          <a:blip r:embed="rId2"/>
          <a:stretch/>
        </p:blipFill>
        <p:spPr>
          <a:xfrm>
            <a:off x="533520" y="1828800"/>
            <a:ext cx="3220920" cy="2971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общение1"/>
          <p:cNvPicPr/>
          <p:nvPr/>
        </p:nvPicPr>
        <p:blipFill>
          <a:blip r:embed="rId3"/>
          <a:stretch/>
        </p:blipFill>
        <p:spPr>
          <a:xfrm>
            <a:off x="4876920" y="4648320"/>
            <a:ext cx="3047760" cy="204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чашка"/>
          <p:cNvPicPr/>
          <p:nvPr/>
        </p:nvPicPr>
        <p:blipFill>
          <a:blip r:embed="rId4"/>
          <a:stretch/>
        </p:blipFill>
        <p:spPr>
          <a:xfrm>
            <a:off x="4267080" y="266688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полотенце"/>
          <p:cNvPicPr/>
          <p:nvPr/>
        </p:nvPicPr>
        <p:blipFill>
          <a:blip r:embed="rId5"/>
          <a:stretch/>
        </p:blipFill>
        <p:spPr>
          <a:xfrm>
            <a:off x="1219320" y="5257800"/>
            <a:ext cx="16761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имптомы заболев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высокая температур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озноб и слабость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боль и ломота 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сем тел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каше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головная бо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насморк или заложенность но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симптомы"/>
          <p:cNvPicPr/>
          <p:nvPr/>
        </p:nvPicPr>
        <p:blipFill>
          <a:blip r:embed="rId1"/>
          <a:stretch/>
        </p:blipFill>
        <p:spPr>
          <a:xfrm>
            <a:off x="6553080" y="19810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симптомы1"/>
          <p:cNvPicPr/>
          <p:nvPr/>
        </p:nvPicPr>
        <p:blipFill>
          <a:blip r:embed="rId1"/>
          <a:stretch/>
        </p:blipFill>
        <p:spPr>
          <a:xfrm>
            <a:off x="-380880" y="0"/>
            <a:ext cx="9963000" cy="69818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-228600" y="762120"/>
            <a:ext cx="3276720" cy="6095880"/>
          </a:xfrm>
          <a:prstGeom prst="rect">
            <a:avLst/>
          </a:prstGeom>
          <a:solidFill>
            <a:srgbClr val="ffff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6" descr="ec1b3661b570"/>
          <p:cNvPicPr/>
          <p:nvPr/>
        </p:nvPicPr>
        <p:blipFill>
          <a:blip r:embed="rId2"/>
          <a:srcRect l="0" t="0" r="0" b="6189"/>
          <a:stretch/>
        </p:blipFill>
        <p:spPr>
          <a:xfrm>
            <a:off x="3048120" y="3917880"/>
            <a:ext cx="6324480" cy="2787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image005"/>
          <p:cNvPicPr/>
          <p:nvPr/>
        </p:nvPicPr>
        <p:blipFill>
          <a:blip r:embed="rId3"/>
          <a:stretch/>
        </p:blipFill>
        <p:spPr>
          <a:xfrm>
            <a:off x="-228600" y="914400"/>
            <a:ext cx="32734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14640" y="1904760"/>
            <a:ext cx="2895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новны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редством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филакт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РИП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АКЦИН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прививка"/>
          <p:cNvPicPr/>
          <p:nvPr/>
        </p:nvPicPr>
        <p:blipFill>
          <a:blip r:embed="rId2"/>
          <a:stretch/>
        </p:blipFill>
        <p:spPr>
          <a:xfrm>
            <a:off x="1295280" y="1752480"/>
            <a:ext cx="403884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вакцинация1"/>
          <p:cNvPicPr/>
          <p:nvPr/>
        </p:nvPicPr>
        <p:blipFill>
          <a:blip r:embed="rId3"/>
          <a:stretch/>
        </p:blipFill>
        <p:spPr>
          <a:xfrm>
            <a:off x="6553080" y="4952880"/>
            <a:ext cx="23623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05320" y="1904760"/>
            <a:ext cx="5340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фортный температурный режим помещ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гулярное проветривание, влажная уборка помещ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евать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пого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уборка"/>
          <p:cNvPicPr/>
          <p:nvPr/>
        </p:nvPicPr>
        <p:blipFill>
          <a:blip r:embed="rId1"/>
          <a:stretch/>
        </p:blipFill>
        <p:spPr>
          <a:xfrm>
            <a:off x="838080" y="43434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уборка1"/>
          <p:cNvPicPr/>
          <p:nvPr/>
        </p:nvPicPr>
        <p:blipFill>
          <a:blip r:embed="rId2"/>
          <a:stretch/>
        </p:blipFill>
        <p:spPr>
          <a:xfrm>
            <a:off x="380880" y="1600200"/>
            <a:ext cx="236232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уборка2"/>
          <p:cNvPicPr/>
          <p:nvPr/>
        </p:nvPicPr>
        <p:blipFill>
          <a:blip r:embed="rId3"/>
          <a:stretch/>
        </p:blipFill>
        <p:spPr>
          <a:xfrm>
            <a:off x="6705720" y="4952880"/>
            <a:ext cx="19047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И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38120" y="1904760"/>
            <a:ext cx="480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крывайте рот и нос при чихании или каш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бегайте прикосновений ко своему рту и но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блюдайте «дистанцию» при общ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чихание"/>
          <p:cNvPicPr/>
          <p:nvPr/>
        </p:nvPicPr>
        <p:blipFill>
          <a:blip r:embed="rId1"/>
          <a:stretch/>
        </p:blipFill>
        <p:spPr>
          <a:xfrm>
            <a:off x="685800" y="1905120"/>
            <a:ext cx="3200400" cy="2219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чихание2"/>
          <p:cNvPicPr/>
          <p:nvPr/>
        </p:nvPicPr>
        <p:blipFill>
          <a:blip r:embed="rId2"/>
          <a:stretch/>
        </p:blipFill>
        <p:spPr>
          <a:xfrm>
            <a:off x="1295280" y="5029200"/>
            <a:ext cx="2438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343400" y="1905120"/>
            <a:ext cx="4502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щательно и час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ойте руки с мылом         и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тирайте 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езинфицирующи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редств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706840" cy="2819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6172200" y="5334120"/>
            <a:ext cx="25146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80920" y="1904760"/>
            <a:ext cx="5264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бегайте тесных контактов с людьми которые могут быть боль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кратите время пребывания в местах скопления люд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гости1"/>
          <p:cNvPicPr/>
          <p:nvPr/>
        </p:nvPicPr>
        <p:blipFill>
          <a:blip r:embed="rId1"/>
          <a:stretch/>
        </p:blipFill>
        <p:spPr>
          <a:xfrm>
            <a:off x="1143000" y="4343400"/>
            <a:ext cx="2438280" cy="2138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гости2"/>
          <p:cNvPicPr/>
          <p:nvPr/>
        </p:nvPicPr>
        <p:blipFill>
          <a:blip r:embed="rId2"/>
          <a:stretch/>
        </p:blipFill>
        <p:spPr>
          <a:xfrm>
            <a:off x="304920" y="1295280"/>
            <a:ext cx="2666880" cy="2895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rinthian</dc:creator>
  <dc:description/>
  <dc:language>en-US</dc:language>
  <cp:lastModifiedBy>Comp</cp:lastModifiedBy>
  <dcterms:modified xsi:type="dcterms:W3CDTF">2016-02-03T17:26:00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