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png" ContentType="image/png"/>
  <Override PartName="/ppt/media/image23.png" ContentType="image/png"/>
  <Override PartName="/ppt/media/image19.png" ContentType="image/png"/>
  <Override PartName="/ppt/media/image20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media/image9.png" ContentType="image/png"/>
  <Override PartName="/ppt/media/image31.gif" ContentType="image/gif"/>
  <Override PartName="/ppt/media/image13.gif" ContentType="image/gif"/>
  <Override PartName="/ppt/media/image30.jpeg" ContentType="image/jpeg"/>
  <Override PartName="/ppt/media/image15.png" ContentType="image/png"/>
  <Override PartName="/ppt/media/image32.jpeg" ContentType="image/jpeg"/>
  <Override PartName="/ppt/media/image26.jpeg" ContentType="image/jpeg"/>
  <Override PartName="/ppt/media/image33.wmf" ContentType="image/x-wmf"/>
  <Override PartName="/ppt/media/image6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4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7.jpeg" ContentType="image/jpeg"/>
  <Override PartName="/ppt/media/image17.gif" ContentType="image/gif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18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5894-8397-424C-BF72-D3EE01F9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6CB6-14FB-4B19-9251-A2A3970D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AD5B-F4D9-4B95-889C-B0D31877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887D-C05A-4BBE-868D-39ABE4DA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9C72-8F77-48F6-B2FE-0E703338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C055-F1F9-456D-8B8A-90DCC8F1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A6FB-5172-4765-A14F-C8CB8CA5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8301-7F79-4DAC-935E-7FD11674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5EA5-27D7-46A1-9451-1E0E984B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AD56-4043-45B5-A3FA-0595460C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1040-1C66-483E-94E8-05E3C85E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F6C2-587D-455C-8E1F-A1D02B20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B7A6-A0DE-482C-B2D0-1EAC6017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365E-B8C3-415E-84EA-3A4DBA0A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C855-0DFE-4992-B045-D6F41728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C48A-5A52-46D8-8CB1-6EBAB561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690F-5ED0-4AAA-A7B2-F98B766D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C5B7-DF5E-4ECD-9D6D-A9F36BA5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0AAA-45EF-48E3-8950-69F85C37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8591-90F8-4F7E-9ED3-2850847A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7C48-DD29-49BA-97E5-A40A6552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13C-5155-4ED1-B0B0-D961C618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BBC-203B-4CB7-954E-118406DC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99D4-BB3A-47D6-89C6-016AE551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b1b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3DC0-6AD9-4EF1-AA4C-C7B30AAB703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5625-D8D3-46AE-9583-2263ABB0B5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b1b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6B48-0D13-48C7-A6ED-B9594AB7D7D0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3B2F-2669-456E-B533-A2642E8F6E3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26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7.xml"/><Relationship Id="rId18" Type="http://schemas.openxmlformats.org/officeDocument/2006/relationships/slide" Target="slide18.xml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2514600"/>
            <a:ext cx="6705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Arial Black"/>
              </a:rPr>
              <a:t>Викторина </a:t>
            </a:r>
            <a:br>
              <a:rPr sz="7200"/>
            </a:br>
            <a:r>
              <a:rPr b="1" lang="en-US" sz="7200" spc="-1" strike="noStrike">
                <a:solidFill>
                  <a:srgbClr val="006600"/>
                </a:solidFill>
                <a:latin typeface="Arial Black"/>
              </a:rPr>
              <a:t>по ПДД</a:t>
            </a:r>
            <a:endParaRPr b="0" lang="en-US" sz="7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2280" y="114300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ОБЖ, 8 класс, тема 2, урок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8600" y="56386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Андреева Н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г. Ачин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57200" y="533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Участник дорожного движения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1523880"/>
            <a:ext cx="43434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Лицо, принимающее непосредственное участие в процессе движения в качестве водителя, пешехода, пассажира транспортного сред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Лицо, принимающее непосредственное участие в процессе движения в качестве водителя, пассажира транспортного сред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одители, пешеходы, дорожные рабо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57578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 rot="21036000">
            <a:off x="838080" y="1523520"/>
            <a:ext cx="2119320" cy="215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14400" y="2286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Разрешена ли буксировка велосипеда другим велосипедом и мопедом?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362320"/>
            <a:ext cx="60958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е разреше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зрешена, но только велосипеда велосипед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зрешена, но только по велосипедной дорож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 rot="20967000">
            <a:off x="1074240" y="3147840"/>
            <a:ext cx="2125800" cy="2314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9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Что в сочетании из греческого и русского слов означает «светофор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62520" y="3124080"/>
            <a:ext cx="4495680" cy="16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«Красный, желтый, зеленый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«Сверкающие огн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«Носитель све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1447920" y="2209680"/>
            <a:ext cx="1726920" cy="2610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838080" y="22860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В марте 1730 г. императрица Анна Иоанновна подписала указ, по которому лихачей надлежало задерживать, кучеров в наказание сечь розгами. Какие меры наказания в начале XVIII века применялись к людям, нарушающим правила движения:</a:t>
            </a:r>
            <a:r>
              <a:rPr b="0" lang="en-US" sz="24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3733920"/>
            <a:ext cx="4419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Секли розг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Штраф, изъятие водительского удостовер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Задержание, штраф, розги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4038480" y="3610080"/>
            <a:ext cx="396252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500"/>
                            </p:stCondLst>
                            <p:childTnLst>
                              <p:par>
                                <p:cTn id="49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3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5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95121 -0.20255 L -0.47569 -0.20255 C -0.26267 -0.20255 -3.61111E-006 -0.14723 -3.61111E-006 -0.10139 L -3.61111E-006 2.96296E-006 E">
                                      <p:cBhvr>
                                        <p:cTn id="509" dur="7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33520" y="228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ому должны подчиняться водители и пешеходы, если сигналы регулировщика противоречат сигналам светофора:</a:t>
            </a: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2514600"/>
            <a:ext cx="4572000" cy="1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Сигналам светоф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Сигналам регулировщ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Действовать по своему усмотрению.</a:t>
            </a:r>
            <a:r>
              <a:rPr b="0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1143000" y="2590920"/>
            <a:ext cx="1660680" cy="2590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80880" y="7621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то проедет перв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4572000"/>
            <a:ext cx="411480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елосипед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Мотоцик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1066680" y="1905120"/>
            <a:ext cx="3810240" cy="2300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762120" y="2286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Кому из пешеходов не запрещено переходить дорог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90720" y="4267080"/>
            <a:ext cx="68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685800" y="1905120"/>
            <a:ext cx="7696080" cy="21952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315200" y="41911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42670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4340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583" dur="2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14400" y="304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С каким из дорожных знаков применяется следующая разме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95280" y="5715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                    2                    3         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image050" descr=""/>
          <p:cNvPicPr/>
          <p:nvPr/>
        </p:nvPicPr>
        <p:blipFill>
          <a:blip r:embed="rId3"/>
          <a:stretch/>
        </p:blipFill>
        <p:spPr>
          <a:xfrm>
            <a:off x="6324480" y="44956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990720" y="4648320"/>
            <a:ext cx="1143000" cy="9745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6"/>
          <a:stretch/>
        </p:blipFill>
        <p:spPr>
          <a:xfrm>
            <a:off x="2133720" y="1371600"/>
            <a:ext cx="4876560" cy="2862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7"/>
          <a:stretch/>
        </p:blipFill>
        <p:spPr>
          <a:xfrm>
            <a:off x="2743200" y="45720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04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371600" y="3049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Этот дорожный знак показывает, что впер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4419720"/>
            <a:ext cx="5562360" cy="25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Движение возможно только пря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переди дорога с односторонним дви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514600" y="1447920"/>
            <a:ext cx="3505320" cy="2703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3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-22860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ому разрешено дви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4876920"/>
            <a:ext cx="49528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мобилям и велосипеди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елосипедисту и пешех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мобилям и пешех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2209680" y="1371600"/>
            <a:ext cx="4648320" cy="2878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500"/>
                            </p:stCondLst>
                            <p:childTnLst>
                              <p:par>
                                <p:cTn id="65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2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9092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8128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2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3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4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5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5308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6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7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8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9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0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5308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1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2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3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4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5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5308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6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7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8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5308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9092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6272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5308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762120" y="457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Водитель велосипе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47920" y="4572000"/>
            <a:ext cx="6095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Должен уступить дор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Имеет преимущественное право на 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2209680" y="1600200"/>
            <a:ext cx="4191120" cy="2511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80880" y="228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Что называется тормозным путем?</a:t>
            </a:r>
            <a:r>
              <a:rPr b="1" lang="en-US" sz="2400" spc="-1" strike="noStrike">
                <a:solidFill>
                  <a:srgbClr val="3fdde1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2362320"/>
            <a:ext cx="754380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сстояние, пройденное автомобилем с момента обнаружения водителем опасности до полной останов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сстояние, пройденное автомобилем с момента нажатия водителем педали тормоза до полной о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Тормозной след от шин автомоби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Untitled-1"/>
          <p:cNvPicPr/>
          <p:nvPr/>
        </p:nvPicPr>
        <p:blipFill>
          <a:blip r:embed="rId3"/>
          <a:stretch/>
        </p:blipFill>
        <p:spPr>
          <a:xfrm rot="21004800">
            <a:off x="914040" y="838080"/>
            <a:ext cx="1104840" cy="1122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wheel spokes="3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500"/>
                            </p:stCondLst>
                            <p:childTnLst>
                              <p:par>
                                <p:cTn id="7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0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28600" y="228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В какой последовательности транспортные средства проедут перекрест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76520" y="4572000"/>
            <a:ext cx="5410080" cy="21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елосипед, автомобиль, мото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Мотоцикл, автомобиль, велосип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мобиль, мотоцикл, велосип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1981080" y="1447920"/>
            <a:ext cx="4496040" cy="2778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500"/>
                            </p:stCondLst>
                            <p:childTnLst>
                              <p:par>
                                <p:cTn id="7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2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457200" y="228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огда велосипедистам разрешено двигаться по двое в одном ря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971800" y="1600200"/>
            <a:ext cx="5181480" cy="1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ик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Когда в группе едет 10 велосипед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Когда в группе 25 велосипед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rId2" action="ppaction://hlinksldjump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335268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70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7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4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80880" y="228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Разрешается ли перевозить ребенка на велосипе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1219320"/>
            <a:ext cx="556272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Только до 7 лет на специально оборудованном сиден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Да, на багажнике велосип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5" descr="C12-12"/>
          <p:cNvPicPr/>
          <p:nvPr/>
        </p:nvPicPr>
        <p:blipFill>
          <a:blip r:embed="rId3"/>
          <a:stretch/>
        </p:blipFill>
        <p:spPr>
          <a:xfrm>
            <a:off x="4800600" y="3809880"/>
            <a:ext cx="3124080" cy="2330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500"/>
                            </p:stCondLst>
                            <p:childTnLst>
                              <p:par>
                                <p:cTn id="8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-457200" y="228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К транспортным средствам общего пользования относя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676520"/>
            <a:ext cx="5181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Трамваи и троллейбу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бусы и маршрутное так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бусы, троллейбусы, трамваи, движущиеся по установленным маршру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-2438280" y="3886200"/>
            <a:ext cx="2185920" cy="2195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9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903 -0.01666 L -0.12534 0.0044 L -0.04913 -0.01666 L 0.03351 0.0044 L 0.11615 -0.01666 L 0.19323 0.0044 L 0.2757 -0.01666 L 0.35382 0.0044 L 0.43594 -0.01666 L 0.51858 0.0044 L 0.59653 -0.01666 L 0.67917 0.0044 L 0.75625 -0.01666 L 0.83889 0.0044 L 0.92153 -0.01666 L 0.99931 0.0044 L 1.08229 -0.01666 E">
                                      <p:cBhvr>
                                        <p:cTn id="851" dur="7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066680" y="2057400"/>
            <a:ext cx="71629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Ур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Вы – счастливчик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Получите приз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2" action="ppaction://hlinksldjump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6324480" y="457200"/>
            <a:ext cx="1540080" cy="224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3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3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3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066680" y="5335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Имеет ли право водитель велосипеда проезжать под этот зн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78720" y="3113280"/>
            <a:ext cx="28616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spcBef>
                <a:spcPts val="375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Имеет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5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Не имеет пр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image061" descr=""/>
          <p:cNvPicPr/>
          <p:nvPr/>
        </p:nvPicPr>
        <p:blipFill>
          <a:blip r:embed="rId3"/>
          <a:stretch/>
        </p:blipFill>
        <p:spPr>
          <a:xfrm>
            <a:off x="1600200" y="2895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14400" y="2286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акими буквами обозначены знаки, запрещающие движение на велосипе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85800" y="2870280"/>
            <a:ext cx="132228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 и 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Б и 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, Б,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990720" y="2819520"/>
          <a:ext cx="9428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819520"/>
                    <a:ext cx="9428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0" y="37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 flipH="1">
            <a:off x="2514600" y="3103560"/>
            <a:ext cx="990720" cy="973080"/>
          </a:xfrm>
          <a:prstGeom prst="rect">
            <a:avLst/>
          </a:prstGeom>
          <a:ln w="0">
            <a:noFill/>
          </a:ln>
        </p:spPr>
      </p:pic>
      <p:pic>
        <p:nvPicPr>
          <p:cNvPr id="263" name="image061" descr=""/>
          <p:cNvPicPr/>
          <p:nvPr/>
        </p:nvPicPr>
        <p:blipFill>
          <a:blip r:embed="rId6"/>
          <a:stretch/>
        </p:blipFill>
        <p:spPr>
          <a:xfrm>
            <a:off x="4191120" y="30481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845440" y="4342680"/>
            <a:ext cx="3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 Black"/>
              </a:rPr>
              <a:t>Б</a:t>
            </a:r>
            <a:r>
              <a:rPr b="0" lang="en-US" sz="18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14760" y="432828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36240" y="4328280"/>
            <a:ext cx="41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38080" y="1522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Как поступить велосипедисту, если перед перекрестком установлен этот знак?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image050" descr=""/>
          <p:cNvPicPr/>
          <p:nvPr/>
        </p:nvPicPr>
        <p:blipFill>
          <a:blip r:embed="rId3"/>
          <a:stretch/>
        </p:blipFill>
        <p:spPr>
          <a:xfrm>
            <a:off x="1066680" y="259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505320" y="1603440"/>
            <a:ext cx="45720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Если нет машин, проехать перекресток без о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При проезде перекрестка быть особенно внимате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Остановиться у стоп-линии, а если ее нет – перед краем пересекаемой проезжей части, и уступить дорогу транспортным средствам, движущимся по пересекаемой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5335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Какой знак называется «Пешеходная дорожка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3809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dde1"/>
                </a:solidFill>
                <a:latin typeface="Arial Black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1                2               3          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066680" y="2286000"/>
          <a:ext cx="1092240" cy="13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286000"/>
                    <a:ext cx="109224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0" y="381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819520" y="2514600"/>
          <a:ext cx="969840" cy="108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2514600"/>
                    <a:ext cx="96984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37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648320" y="2514600"/>
          <a:ext cx="996840" cy="109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2514600"/>
                    <a:ext cx="9968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image100" descr=""/>
          <p:cNvPicPr/>
          <p:nvPr/>
        </p:nvPicPr>
        <p:blipFill>
          <a:blip r:embed="rId9"/>
          <a:stretch/>
        </p:blipFill>
        <p:spPr>
          <a:xfrm>
            <a:off x="6400800" y="2438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8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228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ак безопаснее поступить водителю мопеда, если на перекрестке установлен этот знак?</a:t>
            </a: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image046" descr=""/>
          <p:cNvPicPr/>
          <p:nvPr/>
        </p:nvPicPr>
        <p:blipFill>
          <a:blip r:embed="rId3"/>
          <a:stretch/>
        </p:blipFill>
        <p:spPr>
          <a:xfrm>
            <a:off x="990720" y="2514600"/>
            <a:ext cx="1981080" cy="16905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809880" y="1798920"/>
            <a:ext cx="42674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2874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Уступить дорогу транспортным средствам, движущимся по пересекаемой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74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Продолжить движение, не уступая доро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74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Проехать перекресток с соблюдением мер предосторож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57200" y="457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Где должны пересекать проезжую часть пешеходы:</a:t>
            </a: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2133720"/>
            <a:ext cx="464832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 любом мес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По пешеходным переходам (надземным или подземным), а при их отсутствии - на перекрестках по линии тротуаров или обоч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 любом месте, если нет движущихся транспортных средств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-933480" y="4267080"/>
            <a:ext cx="933480" cy="2210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70645E-007 L 1.11771 0.00555 E">
                                      <p:cBhvr>
                                        <p:cTn id="334" dur="5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219320" y="2286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Под какой из знаков водитель мопеда не имеет права проезж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4800600"/>
            <a:ext cx="2514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Знак «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Знак «Б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Оба зн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061" descr=""/>
          <p:cNvPicPr/>
          <p:nvPr/>
        </p:nvPicPr>
        <p:blipFill>
          <a:blip r:embed="rId3"/>
          <a:stretch/>
        </p:blipFill>
        <p:spPr>
          <a:xfrm>
            <a:off x="1600200" y="19810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299" name="image057" descr=""/>
          <p:cNvPicPr/>
          <p:nvPr/>
        </p:nvPicPr>
        <p:blipFill>
          <a:blip r:embed="rId4"/>
          <a:stretch/>
        </p:blipFill>
        <p:spPr>
          <a:xfrm>
            <a:off x="5410080" y="1981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3900600"/>
            <a:ext cx="525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81080" y="380916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Black"/>
              </a:rPr>
              <a:t>А                                             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300"/>
                            </p:stCondLst>
                            <p:childTnLst>
                              <p:par>
                                <p:cTn id="3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100"/>
                            </p:stCondLst>
                            <p:childTnLst>
                              <p:par>
                                <p:cTn id="3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72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5-09-16T17:15:15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