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23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media/image9.png" ContentType="image/png"/>
  <Override PartName="/ppt/media/image31.gif" ContentType="image/gif"/>
  <Override PartName="/ppt/media/image13.gif" ContentType="image/gif"/>
  <Override PartName="/ppt/media/image30.jpeg" ContentType="image/jpeg"/>
  <Override PartName="/ppt/media/image15.png" ContentType="image/png"/>
  <Override PartName="/ppt/media/image32.jpeg" ContentType="image/jpeg"/>
  <Override PartName="/ppt/media/image26.jpeg" ContentType="image/jpeg"/>
  <Override PartName="/ppt/media/image33.wmf" ContentType="image/x-wmf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7.jpeg" ContentType="image/jpeg"/>
  <Override PartName="/ppt/media/image17.gif" ContentType="image/gif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18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411-2067-4B22-A18D-6F518203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578-C8D9-4856-A8B5-C9BEE43F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650-9611-4A3A-8956-6C2701C1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74F-3121-4EAA-A0C9-1E0BD0A6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CAC5-AAF7-4A51-8D18-54DE09E9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6CDC-F3BE-4DA5-B194-8E5DCF07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B113-EE05-43FA-BBC4-36CCD046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A9EA-737C-4583-9323-597CF10E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D314-8A47-4A36-9974-16BC0555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F9CD-A153-4659-A54F-E06D895C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AED5-04E9-4C77-945F-7BD19141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778-4D2C-4173-90F2-5A4DCB52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6F2F-12DC-4AC6-838F-E8349A94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5A4A-F1D5-4D7D-80E3-E0CB4D3B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CE7C-1C52-4BEE-965F-F2CCF076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39F5-C735-4E38-9C76-97D64AB2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86B5-0F83-46CE-8835-ADD5E11D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F1C-8886-4B8D-AAC0-1F5C5DAD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F21-2B3F-4C59-B944-8C42399C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FB4-01F1-48BD-AAF3-717EE391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FB00-A287-4DAC-8083-FC66E924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D3D-2CE1-4974-9D93-A2A6A805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917-C617-421E-81A4-FFEDE5E1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0FF-EB7B-498D-9DEE-939DE0D5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2537-F7D5-4D2E-9800-E42D6EAF3CD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ACD2-0A6F-412C-A53B-8A4F782767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8A8A-803D-4541-8E3B-EE90C1C1373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38B7-5D0F-4A0D-93C6-B90E72B938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26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2514600"/>
            <a:ext cx="6705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Arial Black"/>
              </a:rPr>
              <a:t>Викторина </a:t>
            </a:r>
            <a:br>
              <a:rPr sz="7200"/>
            </a:br>
            <a:r>
              <a:rPr b="1" lang="en-US" sz="7200" spc="-1" strike="noStrike">
                <a:solidFill>
                  <a:srgbClr val="006600"/>
                </a:solidFill>
                <a:latin typeface="Arial Black"/>
              </a:rPr>
              <a:t>по ПДД</a:t>
            </a:r>
            <a:endParaRPr b="0" lang="en-US" sz="7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2280" y="114300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ОБЖ, 8 класс, тема 2, урок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56386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Андреева Н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г. Ачи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533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Участник дорожного движения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1523880"/>
            <a:ext cx="43434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Лицо, принимающее непосредственное участие в процессе движения в качестве водителя, пешехода, пассажира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Лицо, принимающее непосредственное участие в процессе движения в качестве водителя, пассажира транспортного сред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одители, пешеходы, дорожные раб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57578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 rot="21036000">
            <a:off x="838080" y="1523520"/>
            <a:ext cx="2119320" cy="215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14400" y="2286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Разрешена ли буксировка велосипеда другим велосипедом и мопедом?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362320"/>
            <a:ext cx="6095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е разреш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зрешена, но только велосипеда велосипед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зрешена, но только по велосипедной дорож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 rot="20967000">
            <a:off x="1074240" y="3147840"/>
            <a:ext cx="2125800" cy="2314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Что в сочетании из греческого и русского слов означает «светофор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3124080"/>
            <a:ext cx="449568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Красный, желтый, зелены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Сверкающие огн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«Носитель све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1726920" cy="261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38080" y="22860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В марте 1730 г. императрица Анна Иоанновна подписала указ, по которому лихачей надлежало задерживать, кучеров в наказание сечь розгами. Какие меры наказания в начале XVIII века применялись к людям, нарушающим правила движения:</a:t>
            </a:r>
            <a:r>
              <a:rPr b="0" lang="en-US" sz="24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3733920"/>
            <a:ext cx="4419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Секли розг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Штраф, изъятие водительского удостовер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адержание, штраф, розги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4038480" y="3610080"/>
            <a:ext cx="396252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5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95121 -0.20255 L -0.47569 -0.20255 C -0.26267 -0.20255 -3.61111E-006 -0.14723 -3.61111E-006 -0.10139 L -3.61111E-006 2.96296E-006 E">
                                      <p:cBhvr>
                                        <p:cTn id="509" dur="7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228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му должны подчиняться водители и пешеходы, если сигналы регулировщика противоречат сигналам светофора: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2514600"/>
            <a:ext cx="457200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Сигналам светоф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Сигналам регулировщ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Действовать по своему усмотрению.</a:t>
            </a: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166068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0880" y="762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то проедет перв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4572000"/>
            <a:ext cx="411480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Мотоцик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1066680" y="1905120"/>
            <a:ext cx="3810240" cy="230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762120" y="228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Кому из пешеходов не запрещено переходить доро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4267080"/>
            <a:ext cx="68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685800" y="1905120"/>
            <a:ext cx="7696080" cy="2195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315200" y="4191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42670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4340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583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144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С каким из дорожных знаков применяется следующая разме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                    2                    3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image050" descr=""/>
          <p:cNvPicPr/>
          <p:nvPr/>
        </p:nvPicPr>
        <p:blipFill>
          <a:blip r:embed="rId3"/>
          <a:stretch/>
        </p:blipFill>
        <p:spPr>
          <a:xfrm>
            <a:off x="6324480" y="44956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990720" y="4648320"/>
            <a:ext cx="1143000" cy="9745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2133720" y="1371600"/>
            <a:ext cx="4876560" cy="2862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2743200" y="45720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4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371600" y="304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Этот дорожный знак показывает, что впе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4419720"/>
            <a:ext cx="556236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вижение возможно только пря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переди дорога с односторонним дви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514600" y="1447920"/>
            <a:ext cx="3505320" cy="2703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-22860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му разрешено дви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876920"/>
            <a:ext cx="4952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ям и велосипед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исту и пеш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ям и пеш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09680" y="1371600"/>
            <a:ext cx="4648320" cy="2878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50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9092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914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2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3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4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5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18288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6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7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8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9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0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26668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1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2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3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4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5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3505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6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7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Arial Black"/>
                <a:hlinkClick r:id="rId18" action="ppaction://hlinksldjump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53080" y="43434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fbfb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51814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62120" y="457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Водитель велосипе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4572000"/>
            <a:ext cx="6095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Должен уступить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Имеет преимущественное право на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2209680" y="1600200"/>
            <a:ext cx="4191120" cy="251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228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Что называется тормозным путем?</a:t>
            </a:r>
            <a:r>
              <a:rPr b="1" lang="en-US" sz="2400" spc="-1" strike="noStrike">
                <a:solidFill>
                  <a:srgbClr val="3fdde1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2362320"/>
            <a:ext cx="754380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сстояние, пройденное автомобилем с момента обнаружения водителем опасности до полной остан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Расстояние, пройденное автомобилем с момента нажатия водителем педали тормоза до полной о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Тормозной след от шин автомоби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Untitled-1"/>
          <p:cNvPicPr/>
          <p:nvPr/>
        </p:nvPicPr>
        <p:blipFill>
          <a:blip r:embed="rId3"/>
          <a:stretch/>
        </p:blipFill>
        <p:spPr>
          <a:xfrm rot="21004800">
            <a:off x="914040" y="838080"/>
            <a:ext cx="1104840" cy="112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wheel spokes="3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500"/>
                            </p:stCondLst>
                            <p:childTnLst>
                              <p:par>
                                <p:cTn id="7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28600" y="228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В какой последовательности транспортные средства проедут перекрес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76520" y="4572000"/>
            <a:ext cx="541008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елосипед, автомобиль, мото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Мотоцикл, автомобиль, велосип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мобиль, мотоцикл, велоси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981080" y="1447920"/>
            <a:ext cx="4496040" cy="2778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57200" y="228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огда велосипедистам разрешено двигаться по двое в одном ря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1600200"/>
            <a:ext cx="518148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ик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Когда в группе едет 10 велосипе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Когда в группе 25 велосипе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33526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0880" y="228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Разрешается ли перевозить ребенка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1219320"/>
            <a:ext cx="556272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Только до 7 лет на специально оборудованном сид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Да, на багажнике велосип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5" descr="C12-12"/>
          <p:cNvPicPr/>
          <p:nvPr/>
        </p:nvPicPr>
        <p:blipFill>
          <a:blip r:embed="rId3"/>
          <a:stretch/>
        </p:blipFill>
        <p:spPr>
          <a:xfrm>
            <a:off x="4800600" y="3809880"/>
            <a:ext cx="3124080" cy="2330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500"/>
                            </p:stCondLst>
                            <p:childTnLst>
                              <p:par>
                                <p:cTn id="8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-45720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К транспортным средствам общего пользования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676520"/>
            <a:ext cx="5181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Трамваи и троллейб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бусы и маршрутное так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Автобусы, троллейбусы, трамваи, движущиеся по установленным маршру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2" action="ppaction://hlinksldjump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-2438280" y="3886200"/>
            <a:ext cx="2185920" cy="2195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03 -0.01666 L -0.12534 0.0044 L -0.04913 -0.01666 L 0.03351 0.0044 L 0.11615 -0.01666 L 0.19323 0.0044 L 0.2757 -0.01666 L 0.35382 0.0044 L 0.43594 -0.01666 L 0.51858 0.0044 L 0.59653 -0.01666 L 0.67917 0.0044 L 0.75625 -0.01666 L 0.83889 0.0044 L 0.92153 -0.01666 L 0.99931 0.0044 L 1.08229 -0.01666 E">
                                      <p:cBhvr>
                                        <p:cTn id="851" dur="7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66680" y="2057400"/>
            <a:ext cx="7162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У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 Black"/>
              </a:rPr>
              <a:t>Вы – счастливчик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Получите приз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2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1540080" cy="224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3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3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66680" y="5335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Имеет ли право водитель велосипеда проезжать под этот зн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78720" y="3113280"/>
            <a:ext cx="28616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spcBef>
                <a:spcPts val="375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Имеет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Не имеет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image061" descr=""/>
          <p:cNvPicPr/>
          <p:nvPr/>
        </p:nvPicPr>
        <p:blipFill>
          <a:blip r:embed="rId3"/>
          <a:stretch/>
        </p:blipFill>
        <p:spPr>
          <a:xfrm>
            <a:off x="1600200" y="2895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14400" y="228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акими буквами обозначены знаки, запрещающие движение на велосипе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5800" y="2870280"/>
            <a:ext cx="13222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 и 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Б и 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00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, Б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990720" y="2819520"/>
          <a:ext cx="9428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819520"/>
                    <a:ext cx="9428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0" y="37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 flipH="1">
            <a:off x="2514600" y="3103560"/>
            <a:ext cx="990720" cy="973080"/>
          </a:xfrm>
          <a:prstGeom prst="rect">
            <a:avLst/>
          </a:prstGeom>
          <a:ln w="0">
            <a:noFill/>
          </a:ln>
        </p:spPr>
      </p:pic>
      <p:pic>
        <p:nvPicPr>
          <p:cNvPr id="263" name="image061" descr=""/>
          <p:cNvPicPr/>
          <p:nvPr/>
        </p:nvPicPr>
        <p:blipFill>
          <a:blip r:embed="rId6"/>
          <a:stretch/>
        </p:blipFill>
        <p:spPr>
          <a:xfrm>
            <a:off x="4191120" y="30481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845440" y="4342680"/>
            <a:ext cx="3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 Black"/>
              </a:rPr>
              <a:t>Б</a:t>
            </a: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14760" y="432828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36240" y="4328280"/>
            <a:ext cx="4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 Black"/>
              </a:rPr>
              <a:t>А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38080" y="1522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ак поступить велосипедисту, если перед перекрестком установлен этот знак?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050" descr=""/>
          <p:cNvPicPr/>
          <p:nvPr/>
        </p:nvPicPr>
        <p:blipFill>
          <a:blip r:embed="rId3"/>
          <a:stretch/>
        </p:blipFill>
        <p:spPr>
          <a:xfrm>
            <a:off x="1066680" y="259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505320" y="1603440"/>
            <a:ext cx="4572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сли нет машин, проехать перекресток без о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При проезде перекрестка быть особенно внима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Остановиться у стоп-линии, а если ее нет – перед краем пересекаемой проезжей части, и уступить дорогу транспортным средствам, движущимся по пересекаемой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5335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Какой знак называется «Пешеходная дорожка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3809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dde1"/>
                </a:solidFill>
                <a:latin typeface="Arial Black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1                2               3 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66680" y="2286000"/>
          <a:ext cx="109224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286000"/>
                    <a:ext cx="109224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0" y="381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819520" y="2514600"/>
          <a:ext cx="969840" cy="108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2514600"/>
                    <a:ext cx="9698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37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648320" y="2514600"/>
          <a:ext cx="996840" cy="10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514600"/>
                    <a:ext cx="9968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100" descr=""/>
          <p:cNvPicPr/>
          <p:nvPr/>
        </p:nvPicPr>
        <p:blipFill>
          <a:blip r:embed="rId9"/>
          <a:stretch/>
        </p:blipFill>
        <p:spPr>
          <a:xfrm>
            <a:off x="6400800" y="2438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Как безопаснее поступить водителю мопеда, если на перекрестке установлен этот знак?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age046" descr=""/>
          <p:cNvPicPr/>
          <p:nvPr/>
        </p:nvPicPr>
        <p:blipFill>
          <a:blip r:embed="rId3"/>
          <a:stretch/>
        </p:blipFill>
        <p:spPr>
          <a:xfrm>
            <a:off x="990720" y="2514600"/>
            <a:ext cx="1981080" cy="1690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809880" y="1798920"/>
            <a:ext cx="4267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Уступить дорогу транспортным средствам, движущимся по пересекаемой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Продолжить движение, не уступая дор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74"/>
              </a:spcBef>
              <a:buClr>
                <a:srgbClr val="0099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Проехать перекресток с соблюдением мер предосторож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457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Где должны пересекать проезжую часть пешеходы:</a:t>
            </a:r>
            <a:r>
              <a:rPr b="0" lang="en-US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2133720"/>
            <a:ext cx="46483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 любом мес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По пешеходным переходам (надземным или подземным), а при их отсутствии - на перекрестках по линии тротуаров или обоч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В любом месте, если нет движущихся транспортных средств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-933480" y="4267080"/>
            <a:ext cx="933480" cy="2210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0645E-007 L 1.11771 0.00555 E">
                                      <p:cBhvr>
                                        <p:cTn id="334" dur="5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228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Под какой из знаков водитель мопеда не имеет права проезж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80060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нак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Знак «Б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Оба зн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061" descr=""/>
          <p:cNvPicPr/>
          <p:nvPr/>
        </p:nvPicPr>
        <p:blipFill>
          <a:blip r:embed="rId3"/>
          <a:stretch/>
        </p:blipFill>
        <p:spPr>
          <a:xfrm>
            <a:off x="16002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99" name="image057" descr=""/>
          <p:cNvPicPr/>
          <p:nvPr/>
        </p:nvPicPr>
        <p:blipFill>
          <a:blip r:embed="rId4"/>
          <a:stretch/>
        </p:blipFill>
        <p:spPr>
          <a:xfrm>
            <a:off x="5410080" y="1981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390060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380916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Black"/>
              </a:rPr>
              <a:t>А                                             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0"/>
                            </p:stCondLst>
                            <p:childTnLst>
                              <p:par>
                                <p:cTn id="3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100"/>
                            </p:stCondLst>
                            <p:childTnLst>
                              <p:par>
                                <p:cTn id="3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5-09-16T17:15:15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