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584-C4AB-4A76-8AF4-A5AC26EE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220-6FE1-4E97-89A1-6C4FF29A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8DD-7516-419F-9139-C3515CE9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D5C-D4D4-48F0-BB7A-98EF6584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D593-53F0-4942-B2CE-DE2DA62B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2A06-1167-4756-A95C-31CB5A0A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50A3-8313-470E-B4FB-0991064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7E36-E142-412B-9C5B-A9D10016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A476-0C9F-46EF-8A3D-E8C226FF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E951-0FED-4066-9D45-7549F136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6D50-F4FC-4B94-A142-B14A49A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A45-700A-455F-9FA4-6165089C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4C6-36CE-4B3A-9998-449BEA85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2BC1-98E1-4B6D-878C-0D6D3C76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F770-B608-4EAE-ACC0-4D320125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5958-611E-497C-B02C-1EF7A79B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0875-2C02-40EF-BF76-85FAD1A4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0B9-E597-4EC1-B2B9-E4A23E36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045-A3C2-4171-81EC-0C9B6AEB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559-2E8C-48A6-813E-0E655122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674-81EF-4AEC-B420-DD1DA5F1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8D6-5776-434E-AC81-C807942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997-48CC-4C0D-ABA7-DD870EA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C3C-7299-4252-995F-2B31CB25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997D-0873-4B10-9219-0131380F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EE8D-95F7-4763-96E4-E12A6A75F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rcRect l="0" t="0" r="0" b="6189"/>
          <a:stretch/>
        </p:blipFill>
        <p:spPr>
          <a:xfrm>
            <a:off x="3048120" y="3917880"/>
            <a:ext cx="632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Comp</cp:lastModifiedBy>
  <dcterms:modified xsi:type="dcterms:W3CDTF">2016-02-03T17:26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